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793E-484D-47CA-A574-C59929F24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7459-B64F-4437-A296-6076ABB8B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C0A9-1DE3-466B-B058-4D36CAFEB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1979-E70B-488B-90B6-71B287DEE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923E-04D3-412C-88AA-01A36CD60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7690-BB10-4358-832E-76855D859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9D7C-F747-4439-9AE8-3D07C24E8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14F1-3D8A-4EDE-9F99-7D9642A44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8D6D-9A9B-4F0F-8CF7-DB335CCAF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2E8B-CC4F-4916-8F1C-379F6D62E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4B5B-0B7F-456A-A27B-A1966EE79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07C8-924A-45A4-B035-2D96B24CE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602D-AB88-4543-8EAD-0032DB46D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ECAC-F63E-45B2-8935-082FE835C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9157-5A05-4353-8CBC-456DED28D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575B-0346-40F8-B9FC-3E15E485E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6A04-1429-4F32-B76B-39DA0D4A5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C7C0-5155-491D-B163-AC25BAE70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E31F-5F8E-4097-9C02-0CB6777B2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C652-7803-4FD4-8DB4-84B122C66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3B79-7DBF-4453-9DBD-3BC4C61D9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07D7-A80D-4EEA-8018-6E3F2CF0F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28B0-4A8E-4276-9C26-95CF7C794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3136-486F-4F2D-9F11-E24585E02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BFF-3201-4C6A-9C65-7FECE7AF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286-1707-49C3-9707-0DFF337D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224-837E-4F98-B555-63A7F85F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3DC-3D7B-4D7C-BD2F-E85993A8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E03F-4283-4284-AD16-AADE2D7A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0E8B-64DC-439D-A7E8-7A52E173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214C-DD4C-4322-93A8-B0CC4349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87BA-DC5F-404A-B68F-BCDF6F1E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5111-E109-4B57-A798-49FD2123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AE0E-0C61-4C1D-95B9-809A5E82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7C80-7020-461F-8303-2E562D7F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292-07DF-4C1A-8ECA-761B61D8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8F6C-8E22-417A-8797-082287B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39BC-B65A-40C4-B336-C2CE10F8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8278-4D5B-4870-9CE4-BC298E65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4CDA-48F3-4D05-8AEF-44CD9603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431B-81E6-4CF9-9D21-3F6203E2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2B9B2-5FB2-40AA-9ACE-C23FF6B6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F19B9-805E-4338-8E92-E90E7F17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0D2FE-A699-4AF9-9D8C-DE78756D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CA332-8935-423D-A525-8AB349F8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2472C-6E4E-4525-8413-BFDC606D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0D9-0C24-4B3C-A83D-616144BA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FA0DA-595D-4B95-BD04-95619066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8716D-31B7-4714-8055-F6AACBFB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DEB0B-9815-4BDD-8DD4-EE23AE9A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22CBA-DE60-415F-8235-837F5944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CC337-42E1-44AA-BA4A-D136D9EF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1BBCF-B571-4663-8612-1529DB79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7CEED-AB54-4389-8C30-3F326800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E35F2-30A7-4F65-B779-8F32F019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3892-2DC3-4B9E-948D-99DC47B2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96BF-69A7-4608-B8AE-5546AED4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CDE-4372-4D5B-A6BC-9F1C52F7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C244A-A073-4380-B4AF-527D04A4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A889-3285-456C-86C9-3E8994A3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01F5-5921-4D98-85F6-595EEE1A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C72C-97C3-407F-A51D-7DDE973F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686F-4118-4D36-97FD-B2C0AA2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31144-0E79-49AF-B887-619BD6A5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05FFA-E188-45AE-9FDC-54428F4D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AF049-CF8B-4349-B2F6-45F638C7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5D77A-19C8-4DC0-A57B-848A70F9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64295-333C-47A7-BA9F-63DC7576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1F8-0975-4C75-B627-03E0138A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EBE7B-E8CE-4B3F-80A2-C6D5E600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518C6-5BC3-4AD4-9E36-AB98155F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87462-9A5C-407E-82A8-E248A7AD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5E365-2CD5-481F-AFAA-3DCE291A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27B57-EB79-45F7-9044-A2C159F5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5C04E-03FB-4EB0-A321-ABBF1292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FB76B-53CF-4CEF-BF0C-84F20486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38B58-308E-4936-8629-270D0BD4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303BA-D414-4DE0-BEEA-C3DACA63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401C9-E57E-4F19-A9CD-C7554C5D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8C5-96BE-4FF3-B8BF-315D2383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EE445-97A4-47BD-9F7F-38367533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318C4-63B6-4A3D-A12B-3DA43C3E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F5D77-861A-4E08-9266-FF81008E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81DFD-7A8A-4C87-8939-887D2292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EBF58-F6EC-47A2-9B3E-AED410CF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42A57-6A5A-4A3E-A374-DFD07EF1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66901-DA8D-407A-BC8D-748E6EBD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D0FEC-504E-4498-BDE4-BDDFE83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8FE74-A42F-4DE5-9582-C19F36D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CBF94-9B63-4D1E-B650-EF29C609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021-9BE8-4330-8868-D655F19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07B38-4A38-43FC-8504-E579FF16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B2422-9FA6-490B-B4D1-9182C164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37FD6-429C-4614-89C6-AF65FAB5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B297A0-50E3-404F-9F07-3C10199F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1A50A-F909-4C3F-90FA-F87A57C6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02D2E8-01D1-4A24-8498-56D46759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08D3A-A7C2-4C93-A964-1E942396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56C28-B86C-4CD0-9893-0586CF9B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E40E0-D0FE-4BC8-96BE-EA1F2EF3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006DD-C8DD-47F2-AF5B-5D17F8E3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DD8-9330-43AE-B572-679FE6D3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1F9E36-F015-4EF4-9D16-7232DCDD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773FD6-2821-421C-8EB0-C1EF234C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DF54D-A8DE-43B0-AD2D-7B5901E7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668E3-BF2A-4D86-A2BA-592E3183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68498A-D78B-440D-AC07-9A98DE1A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B75-3BEB-4342-BE55-B1DB660A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BC26-9A1C-4EAE-99D5-2CC6C24308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3125-A706-4529-9785-27C7AD8647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10BC-C1A0-4C2B-8651-FADE07A006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F1BC-1AF7-47AF-ABF7-FCC82FEEBF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1CB5-7231-4591-A347-C41BFC33F4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D148-8A0D-42BB-8CEA-46E82F480B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99C-F0F2-4252-ABF9-E32B966E32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NGLES AND POSTULA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ASSIFY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s are classified according to their meas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ute angle: Measure between 0 and 9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ight angle: Measure 9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btuse angle: Measure between 90 and 18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raight angle: Measure 18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GRUENT ANGLES AND ADJACENT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5998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gruent angles are angles that have equal meas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jacent angles are two angles in a plane that have a common vertex and a common side but no common interior point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essence it tells us that if the angles "overlap" then we cannot call them adjacen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549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KING CONCLUS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assume anything that a diagram does not tell you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ice the marks for congruence in line segments and angles, as well as the mark for a 90 degree an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343240" cy="3895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27147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POSTULAT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ulates or axioms are known as basic assumptions. Assumptions are statements accepted without proo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1 RULER POSTU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The points on a line can be paired with the real numbers in such a way that any two points can have coordinates 0 and 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Once a coordinate system has been chosen in this way, the distance between any two points equals the absolute value of the difference of their coordin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2 SEGMENT ADDITION POSTU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B is between A and C, then AB + BC = A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682640" y="3086280"/>
            <a:ext cx="41896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3 PROTRACTOR POSTULATE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88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  line AB in a given plane , choose any point O between A and B. Consider OA and OB and all the rays that can be drawn from O on one side of AB. These rays can be paired with the real numbers from zero to 180 in such a way tha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OA is paired with 0, and OB with 18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. If OP is paired with x, and OQ with y, then th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asure of POQ = | x - y |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38098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OSTULATE 4 ANGLE ADDITION POSTULAT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point B lies in the interior of  angle AOC, then the measure of angle AOB + the measure of angle BOC = the measure of angle AO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angle AOC is a straight angle and B is any point not on AC, then the measure of angle AOB + the measure of angle BOC = 18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986200" cy="1752840"/>
          </a:xfrm>
          <a:prstGeom prst="rect">
            <a:avLst/>
          </a:prstGeom>
          <a:ln w="0">
            <a:noFill/>
          </a:ln>
        </p:spPr>
      </p:pic>
      <p:sp>
        <p:nvSpPr>
          <p:cNvPr id="397" name="SMARTPenAnnotation37"/>
          <p:cNvSpPr/>
          <p:nvPr/>
        </p:nvSpPr>
        <p:spPr>
          <a:xfrm>
            <a:off x="7007400" y="3814920"/>
            <a:ext cx="33120" cy="196560"/>
          </a:xfrm>
          <a:custGeom>
            <a:avLst/>
            <a:gdLst>
              <a:gd name="textAreaLeft" fmla="*/ 0 w 33120"/>
              <a:gd name="textAreaRight" fmla="*/ 33480 w 3312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34291" h="197168">
                <a:moveTo>
                  <a:pt x="0" y="0"/>
                </a:moveTo>
                <a:lnTo>
                  <a:pt x="4551" y="4551"/>
                </a:lnTo>
                <a:lnTo>
                  <a:pt x="5891" y="6844"/>
                </a:lnTo>
                <a:lnTo>
                  <a:pt x="6785" y="9325"/>
                </a:lnTo>
                <a:lnTo>
                  <a:pt x="7381" y="11932"/>
                </a:lnTo>
                <a:lnTo>
                  <a:pt x="8731" y="14622"/>
                </a:lnTo>
                <a:lnTo>
                  <a:pt x="10583" y="17368"/>
                </a:lnTo>
                <a:lnTo>
                  <a:pt x="12770" y="20151"/>
                </a:lnTo>
                <a:lnTo>
                  <a:pt x="15181" y="23912"/>
                </a:lnTo>
                <a:lnTo>
                  <a:pt x="17740" y="28324"/>
                </a:lnTo>
                <a:lnTo>
                  <a:pt x="20399" y="33170"/>
                </a:lnTo>
                <a:lnTo>
                  <a:pt x="22172" y="39258"/>
                </a:lnTo>
                <a:lnTo>
                  <a:pt x="23353" y="46175"/>
                </a:lnTo>
                <a:lnTo>
                  <a:pt x="24142" y="53643"/>
                </a:lnTo>
                <a:lnTo>
                  <a:pt x="24666" y="59575"/>
                </a:lnTo>
                <a:lnTo>
                  <a:pt x="25017" y="64481"/>
                </a:lnTo>
                <a:lnTo>
                  <a:pt x="25250" y="68705"/>
                </a:lnTo>
                <a:lnTo>
                  <a:pt x="26359" y="77236"/>
                </a:lnTo>
                <a:lnTo>
                  <a:pt x="30130" y="101955"/>
                </a:lnTo>
                <a:lnTo>
                  <a:pt x="31516" y="114642"/>
                </a:lnTo>
                <a:lnTo>
                  <a:pt x="32441" y="126911"/>
                </a:lnTo>
                <a:lnTo>
                  <a:pt x="33743" y="154761"/>
                </a:lnTo>
                <a:lnTo>
                  <a:pt x="34290" y="197167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SMARTPenAnnotation38"/>
          <p:cNvSpPr/>
          <p:nvPr/>
        </p:nvSpPr>
        <p:spPr>
          <a:xfrm>
            <a:off x="6935760" y="3386160"/>
            <a:ext cx="311040" cy="187200"/>
          </a:xfrm>
          <a:custGeom>
            <a:avLst/>
            <a:gdLst>
              <a:gd name="textAreaLeft" fmla="*/ 0 w 311040"/>
              <a:gd name="textAreaRight" fmla="*/ 311400 w 311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11068" h="187173">
                <a:moveTo>
                  <a:pt x="11030" y="59821"/>
                </a:moveTo>
                <a:lnTo>
                  <a:pt x="1929" y="50719"/>
                </a:lnTo>
                <a:lnTo>
                  <a:pt x="200" y="48038"/>
                </a:lnTo>
                <a:lnTo>
                  <a:pt x="0" y="46250"/>
                </a:lnTo>
                <a:lnTo>
                  <a:pt x="3270" y="42360"/>
                </a:lnTo>
                <a:lnTo>
                  <a:pt x="11074" y="34280"/>
                </a:lnTo>
                <a:lnTo>
                  <a:pt x="26177" y="19022"/>
                </a:lnTo>
                <a:lnTo>
                  <a:pt x="31606" y="14523"/>
                </a:lnTo>
                <a:lnTo>
                  <a:pt x="37130" y="10573"/>
                </a:lnTo>
                <a:lnTo>
                  <a:pt x="42718" y="6986"/>
                </a:lnTo>
                <a:lnTo>
                  <a:pt x="49300" y="4595"/>
                </a:lnTo>
                <a:lnTo>
                  <a:pt x="56546" y="3001"/>
                </a:lnTo>
                <a:lnTo>
                  <a:pt x="64234" y="1938"/>
                </a:lnTo>
                <a:lnTo>
                  <a:pt x="71265" y="1230"/>
                </a:lnTo>
                <a:lnTo>
                  <a:pt x="77857" y="758"/>
                </a:lnTo>
                <a:lnTo>
                  <a:pt x="84156" y="443"/>
                </a:lnTo>
                <a:lnTo>
                  <a:pt x="96235" y="93"/>
                </a:lnTo>
                <a:lnTo>
                  <a:pt x="102124" y="0"/>
                </a:lnTo>
                <a:lnTo>
                  <a:pt x="107955" y="890"/>
                </a:lnTo>
                <a:lnTo>
                  <a:pt x="113746" y="2436"/>
                </a:lnTo>
                <a:lnTo>
                  <a:pt x="119513" y="4419"/>
                </a:lnTo>
                <a:lnTo>
                  <a:pt x="128460" y="6623"/>
                </a:lnTo>
                <a:lnTo>
                  <a:pt x="132180" y="7210"/>
                </a:lnTo>
                <a:lnTo>
                  <a:pt x="138851" y="10403"/>
                </a:lnTo>
                <a:lnTo>
                  <a:pt x="141964" y="12588"/>
                </a:lnTo>
                <a:lnTo>
                  <a:pt x="144993" y="15950"/>
                </a:lnTo>
                <a:lnTo>
                  <a:pt x="147963" y="20096"/>
                </a:lnTo>
                <a:lnTo>
                  <a:pt x="150896" y="24765"/>
                </a:lnTo>
                <a:lnTo>
                  <a:pt x="152852" y="28830"/>
                </a:lnTo>
                <a:lnTo>
                  <a:pt x="154155" y="32493"/>
                </a:lnTo>
                <a:lnTo>
                  <a:pt x="155024" y="35887"/>
                </a:lnTo>
                <a:lnTo>
                  <a:pt x="155604" y="39102"/>
                </a:lnTo>
                <a:lnTo>
                  <a:pt x="155991" y="42199"/>
                </a:lnTo>
                <a:lnTo>
                  <a:pt x="156248" y="45215"/>
                </a:lnTo>
                <a:lnTo>
                  <a:pt x="156419" y="48179"/>
                </a:lnTo>
                <a:lnTo>
                  <a:pt x="156610" y="54011"/>
                </a:lnTo>
                <a:lnTo>
                  <a:pt x="155708" y="57853"/>
                </a:lnTo>
                <a:lnTo>
                  <a:pt x="154155" y="62319"/>
                </a:lnTo>
                <a:lnTo>
                  <a:pt x="152167" y="67201"/>
                </a:lnTo>
                <a:lnTo>
                  <a:pt x="148936" y="73314"/>
                </a:lnTo>
                <a:lnTo>
                  <a:pt x="144877" y="80246"/>
                </a:lnTo>
                <a:lnTo>
                  <a:pt x="135288" y="95568"/>
                </a:lnTo>
                <a:lnTo>
                  <a:pt x="124675" y="111903"/>
                </a:lnTo>
                <a:lnTo>
                  <a:pt x="119179" y="118355"/>
                </a:lnTo>
                <a:lnTo>
                  <a:pt x="113609" y="123609"/>
                </a:lnTo>
                <a:lnTo>
                  <a:pt x="107990" y="128063"/>
                </a:lnTo>
                <a:lnTo>
                  <a:pt x="103293" y="131986"/>
                </a:lnTo>
                <a:lnTo>
                  <a:pt x="99209" y="135553"/>
                </a:lnTo>
                <a:lnTo>
                  <a:pt x="95533" y="138884"/>
                </a:lnTo>
                <a:lnTo>
                  <a:pt x="91178" y="142057"/>
                </a:lnTo>
                <a:lnTo>
                  <a:pt x="86369" y="145125"/>
                </a:lnTo>
                <a:lnTo>
                  <a:pt x="81260" y="148123"/>
                </a:lnTo>
                <a:lnTo>
                  <a:pt x="76899" y="151074"/>
                </a:lnTo>
                <a:lnTo>
                  <a:pt x="69515" y="156893"/>
                </a:lnTo>
                <a:lnTo>
                  <a:pt x="63058" y="162654"/>
                </a:lnTo>
                <a:lnTo>
                  <a:pt x="60003" y="165523"/>
                </a:lnTo>
                <a:lnTo>
                  <a:pt x="55109" y="168389"/>
                </a:lnTo>
                <a:lnTo>
                  <a:pt x="48989" y="171252"/>
                </a:lnTo>
                <a:lnTo>
                  <a:pt x="42051" y="174113"/>
                </a:lnTo>
                <a:lnTo>
                  <a:pt x="36473" y="176021"/>
                </a:lnTo>
                <a:lnTo>
                  <a:pt x="27736" y="178140"/>
                </a:lnTo>
                <a:lnTo>
                  <a:pt x="20677" y="179082"/>
                </a:lnTo>
                <a:lnTo>
                  <a:pt x="17462" y="179333"/>
                </a:lnTo>
                <a:lnTo>
                  <a:pt x="17222" y="180453"/>
                </a:lnTo>
                <a:lnTo>
                  <a:pt x="18969" y="182152"/>
                </a:lnTo>
                <a:lnTo>
                  <a:pt x="22037" y="184238"/>
                </a:lnTo>
                <a:lnTo>
                  <a:pt x="27987" y="186555"/>
                </a:lnTo>
                <a:lnTo>
                  <a:pt x="30908" y="187172"/>
                </a:lnTo>
                <a:lnTo>
                  <a:pt x="38569" y="186632"/>
                </a:lnTo>
                <a:lnTo>
                  <a:pt x="49392" y="185319"/>
                </a:lnTo>
                <a:lnTo>
                  <a:pt x="62323" y="183491"/>
                </a:lnTo>
                <a:lnTo>
                  <a:pt x="75705" y="180368"/>
                </a:lnTo>
                <a:lnTo>
                  <a:pt x="89389" y="176380"/>
                </a:lnTo>
                <a:lnTo>
                  <a:pt x="136469" y="160844"/>
                </a:lnTo>
                <a:lnTo>
                  <a:pt x="147997" y="157649"/>
                </a:lnTo>
                <a:lnTo>
                  <a:pt x="160443" y="154567"/>
                </a:lnTo>
                <a:lnTo>
                  <a:pt x="173504" y="151560"/>
                </a:lnTo>
                <a:lnTo>
                  <a:pt x="186973" y="147650"/>
                </a:lnTo>
                <a:lnTo>
                  <a:pt x="200716" y="143139"/>
                </a:lnTo>
                <a:lnTo>
                  <a:pt x="214640" y="138226"/>
                </a:lnTo>
                <a:lnTo>
                  <a:pt x="225827" y="134951"/>
                </a:lnTo>
                <a:lnTo>
                  <a:pt x="235191" y="132767"/>
                </a:lnTo>
                <a:lnTo>
                  <a:pt x="243338" y="131312"/>
                </a:lnTo>
                <a:lnTo>
                  <a:pt x="251627" y="129389"/>
                </a:lnTo>
                <a:lnTo>
                  <a:pt x="260011" y="127154"/>
                </a:lnTo>
                <a:lnTo>
                  <a:pt x="268457" y="124712"/>
                </a:lnTo>
                <a:lnTo>
                  <a:pt x="275041" y="123084"/>
                </a:lnTo>
                <a:lnTo>
                  <a:pt x="280382" y="121999"/>
                </a:lnTo>
                <a:lnTo>
                  <a:pt x="311067" y="119828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MARTPenAnnotation39"/>
          <p:cNvSpPr/>
          <p:nvPr/>
        </p:nvSpPr>
        <p:spPr>
          <a:xfrm>
            <a:off x="5207040" y="540072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e8637"/>
          </a:solidFill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SMARTPenAnnotation40"/>
          <p:cNvSpPr/>
          <p:nvPr/>
        </p:nvSpPr>
        <p:spPr>
          <a:xfrm>
            <a:off x="5214960" y="5280120"/>
            <a:ext cx="3078000" cy="112680"/>
          </a:xfrm>
          <a:custGeom>
            <a:avLst/>
            <a:gdLst>
              <a:gd name="textAreaLeft" fmla="*/ 0 w 3078000"/>
              <a:gd name="textAreaRight" fmla="*/ 3078360 w 30780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077529" h="111422">
                <a:moveTo>
                  <a:pt x="0" y="111421"/>
                </a:moveTo>
                <a:lnTo>
                  <a:pt x="4551" y="111421"/>
                </a:lnTo>
                <a:lnTo>
                  <a:pt x="11865" y="108881"/>
                </a:lnTo>
                <a:lnTo>
                  <a:pt x="16483" y="106871"/>
                </a:lnTo>
                <a:lnTo>
                  <a:pt x="26693" y="104636"/>
                </a:lnTo>
                <a:lnTo>
                  <a:pt x="54421" y="102132"/>
                </a:lnTo>
                <a:lnTo>
                  <a:pt x="60093" y="100466"/>
                </a:lnTo>
                <a:lnTo>
                  <a:pt x="65780" y="98402"/>
                </a:lnTo>
                <a:lnTo>
                  <a:pt x="73380" y="96074"/>
                </a:lnTo>
                <a:lnTo>
                  <a:pt x="91986" y="90948"/>
                </a:lnTo>
                <a:lnTo>
                  <a:pt x="105139" y="88247"/>
                </a:lnTo>
                <a:lnTo>
                  <a:pt x="240063" y="65689"/>
                </a:lnTo>
                <a:lnTo>
                  <a:pt x="327882" y="52574"/>
                </a:lnTo>
                <a:lnTo>
                  <a:pt x="395280" y="44627"/>
                </a:lnTo>
                <a:lnTo>
                  <a:pt x="454763" y="38872"/>
                </a:lnTo>
                <a:lnTo>
                  <a:pt x="577094" y="30324"/>
                </a:lnTo>
                <a:lnTo>
                  <a:pt x="602852" y="27829"/>
                </a:lnTo>
                <a:lnTo>
                  <a:pt x="623834" y="25213"/>
                </a:lnTo>
                <a:lnTo>
                  <a:pt x="641632" y="22517"/>
                </a:lnTo>
                <a:lnTo>
                  <a:pt x="744045" y="9620"/>
                </a:lnTo>
                <a:lnTo>
                  <a:pt x="778922" y="6406"/>
                </a:lnTo>
                <a:lnTo>
                  <a:pt x="810747" y="4264"/>
                </a:lnTo>
                <a:lnTo>
                  <a:pt x="900664" y="825"/>
                </a:lnTo>
                <a:lnTo>
                  <a:pt x="989285" y="90"/>
                </a:lnTo>
                <a:lnTo>
                  <a:pt x="1098490" y="0"/>
                </a:lnTo>
                <a:lnTo>
                  <a:pt x="1143855" y="2528"/>
                </a:lnTo>
                <a:lnTo>
                  <a:pt x="1184655" y="5874"/>
                </a:lnTo>
                <a:lnTo>
                  <a:pt x="1256413" y="8711"/>
                </a:lnTo>
                <a:lnTo>
                  <a:pt x="1275759" y="10562"/>
                </a:lnTo>
                <a:lnTo>
                  <a:pt x="1293418" y="12749"/>
                </a:lnTo>
                <a:lnTo>
                  <a:pt x="1391329" y="17212"/>
                </a:lnTo>
                <a:lnTo>
                  <a:pt x="1411422" y="19088"/>
                </a:lnTo>
                <a:lnTo>
                  <a:pt x="1429581" y="21291"/>
                </a:lnTo>
                <a:lnTo>
                  <a:pt x="1650705" y="37221"/>
                </a:lnTo>
                <a:lnTo>
                  <a:pt x="1706784" y="40343"/>
                </a:lnTo>
                <a:lnTo>
                  <a:pt x="1739836" y="43081"/>
                </a:lnTo>
                <a:lnTo>
                  <a:pt x="1853240" y="54131"/>
                </a:lnTo>
                <a:lnTo>
                  <a:pt x="2050753" y="66316"/>
                </a:lnTo>
                <a:lnTo>
                  <a:pt x="2078687" y="68969"/>
                </a:lnTo>
                <a:lnTo>
                  <a:pt x="2103024" y="71689"/>
                </a:lnTo>
                <a:lnTo>
                  <a:pt x="2142765" y="74713"/>
                </a:lnTo>
                <a:lnTo>
                  <a:pt x="2304262" y="82704"/>
                </a:lnTo>
                <a:lnTo>
                  <a:pt x="2374444" y="84371"/>
                </a:lnTo>
                <a:lnTo>
                  <a:pt x="2522920" y="85308"/>
                </a:lnTo>
                <a:lnTo>
                  <a:pt x="2596085" y="88068"/>
                </a:lnTo>
                <a:lnTo>
                  <a:pt x="2622264" y="90138"/>
                </a:lnTo>
                <a:lnTo>
                  <a:pt x="2763776" y="97601"/>
                </a:lnTo>
                <a:lnTo>
                  <a:pt x="2844102" y="100516"/>
                </a:lnTo>
                <a:lnTo>
                  <a:pt x="2948222" y="102541"/>
                </a:lnTo>
                <a:lnTo>
                  <a:pt x="2995047" y="105328"/>
                </a:lnTo>
                <a:lnTo>
                  <a:pt x="3020868" y="108713"/>
                </a:lnTo>
                <a:lnTo>
                  <a:pt x="3077528" y="111421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SMARTPenAnnotation41"/>
          <p:cNvSpPr/>
          <p:nvPr/>
        </p:nvSpPr>
        <p:spPr>
          <a:xfrm>
            <a:off x="6269040" y="4243320"/>
            <a:ext cx="609480" cy="1079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608649" h="1080136">
                <a:moveTo>
                  <a:pt x="608648" y="1080135"/>
                </a:moveTo>
                <a:lnTo>
                  <a:pt x="608648" y="1071033"/>
                </a:lnTo>
                <a:lnTo>
                  <a:pt x="604097" y="1051721"/>
                </a:lnTo>
                <a:lnTo>
                  <a:pt x="593074" y="1024534"/>
                </a:lnTo>
                <a:lnTo>
                  <a:pt x="577893" y="992329"/>
                </a:lnTo>
                <a:lnTo>
                  <a:pt x="563546" y="959830"/>
                </a:lnTo>
                <a:lnTo>
                  <a:pt x="547646" y="920621"/>
                </a:lnTo>
                <a:lnTo>
                  <a:pt x="539404" y="899497"/>
                </a:lnTo>
                <a:lnTo>
                  <a:pt x="530100" y="879700"/>
                </a:lnTo>
                <a:lnTo>
                  <a:pt x="520088" y="860787"/>
                </a:lnTo>
                <a:lnTo>
                  <a:pt x="501661" y="827389"/>
                </a:lnTo>
                <a:lnTo>
                  <a:pt x="490296" y="803021"/>
                </a:lnTo>
                <a:lnTo>
                  <a:pt x="467442" y="766175"/>
                </a:lnTo>
                <a:lnTo>
                  <a:pt x="452545" y="735493"/>
                </a:lnTo>
                <a:lnTo>
                  <a:pt x="438939" y="712331"/>
                </a:lnTo>
                <a:lnTo>
                  <a:pt x="425590" y="690924"/>
                </a:lnTo>
                <a:lnTo>
                  <a:pt x="410131" y="659185"/>
                </a:lnTo>
                <a:lnTo>
                  <a:pt x="399151" y="639482"/>
                </a:lnTo>
                <a:lnTo>
                  <a:pt x="386116" y="617774"/>
                </a:lnTo>
                <a:lnTo>
                  <a:pt x="342336" y="548644"/>
                </a:lnTo>
                <a:lnTo>
                  <a:pt x="307724" y="488634"/>
                </a:lnTo>
                <a:lnTo>
                  <a:pt x="285160" y="448628"/>
                </a:lnTo>
                <a:lnTo>
                  <a:pt x="269164" y="419101"/>
                </a:lnTo>
                <a:lnTo>
                  <a:pt x="257548" y="396558"/>
                </a:lnTo>
                <a:lnTo>
                  <a:pt x="241149" y="364843"/>
                </a:lnTo>
                <a:lnTo>
                  <a:pt x="227510" y="344398"/>
                </a:lnTo>
                <a:lnTo>
                  <a:pt x="207479" y="313721"/>
                </a:lnTo>
                <a:lnTo>
                  <a:pt x="163460" y="245042"/>
                </a:lnTo>
                <a:lnTo>
                  <a:pt x="149504" y="221407"/>
                </a:lnTo>
                <a:lnTo>
                  <a:pt x="130744" y="190843"/>
                </a:lnTo>
                <a:lnTo>
                  <a:pt x="113632" y="158411"/>
                </a:lnTo>
                <a:lnTo>
                  <a:pt x="98968" y="132133"/>
                </a:lnTo>
                <a:lnTo>
                  <a:pt x="80653" y="111329"/>
                </a:lnTo>
                <a:lnTo>
                  <a:pt x="53849" y="70240"/>
                </a:lnTo>
                <a:lnTo>
                  <a:pt x="33947" y="43884"/>
                </a:lnTo>
                <a:lnTo>
                  <a:pt x="22547" y="24962"/>
                </a:lnTo>
                <a:lnTo>
                  <a:pt x="19547" y="16492"/>
                </a:lnTo>
                <a:lnTo>
                  <a:pt x="17794" y="13852"/>
                </a:lnTo>
                <a:lnTo>
                  <a:pt x="15673" y="12092"/>
                </a:lnTo>
                <a:lnTo>
                  <a:pt x="10776" y="918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SMARTPenAnnotation42"/>
          <p:cNvSpPr/>
          <p:nvPr/>
        </p:nvSpPr>
        <p:spPr>
          <a:xfrm>
            <a:off x="6208560" y="4903920"/>
            <a:ext cx="206640" cy="222120"/>
          </a:xfrm>
          <a:custGeom>
            <a:avLst/>
            <a:gdLst>
              <a:gd name="textAreaLeft" fmla="*/ 0 w 206640"/>
              <a:gd name="textAreaRight" fmla="*/ 207000 w 20664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05167" h="222243">
                <a:moveTo>
                  <a:pt x="17145" y="33801"/>
                </a:moveTo>
                <a:lnTo>
                  <a:pt x="21696" y="29250"/>
                </a:lnTo>
                <a:lnTo>
                  <a:pt x="23989" y="27909"/>
                </a:lnTo>
                <a:lnTo>
                  <a:pt x="29077" y="26419"/>
                </a:lnTo>
                <a:lnTo>
                  <a:pt x="34513" y="25757"/>
                </a:lnTo>
                <a:lnTo>
                  <a:pt x="37296" y="25581"/>
                </a:lnTo>
                <a:lnTo>
                  <a:pt x="41057" y="24511"/>
                </a:lnTo>
                <a:lnTo>
                  <a:pt x="45469" y="22845"/>
                </a:lnTo>
                <a:lnTo>
                  <a:pt x="50315" y="20782"/>
                </a:lnTo>
                <a:lnTo>
                  <a:pt x="57356" y="18454"/>
                </a:lnTo>
                <a:lnTo>
                  <a:pt x="65860" y="15950"/>
                </a:lnTo>
                <a:lnTo>
                  <a:pt x="85469" y="10627"/>
                </a:lnTo>
                <a:lnTo>
                  <a:pt x="106884" y="5086"/>
                </a:lnTo>
                <a:lnTo>
                  <a:pt x="116023" y="3227"/>
                </a:lnTo>
                <a:lnTo>
                  <a:pt x="124021" y="1989"/>
                </a:lnTo>
                <a:lnTo>
                  <a:pt x="131258" y="1162"/>
                </a:lnTo>
                <a:lnTo>
                  <a:pt x="138941" y="612"/>
                </a:lnTo>
                <a:lnTo>
                  <a:pt x="146920" y="245"/>
                </a:lnTo>
                <a:lnTo>
                  <a:pt x="155096" y="0"/>
                </a:lnTo>
                <a:lnTo>
                  <a:pt x="162453" y="789"/>
                </a:lnTo>
                <a:lnTo>
                  <a:pt x="169262" y="2269"/>
                </a:lnTo>
                <a:lnTo>
                  <a:pt x="175707" y="4206"/>
                </a:lnTo>
                <a:lnTo>
                  <a:pt x="180955" y="6451"/>
                </a:lnTo>
                <a:lnTo>
                  <a:pt x="185407" y="8900"/>
                </a:lnTo>
                <a:lnTo>
                  <a:pt x="189327" y="11485"/>
                </a:lnTo>
                <a:lnTo>
                  <a:pt x="191940" y="14161"/>
                </a:lnTo>
                <a:lnTo>
                  <a:pt x="193683" y="16898"/>
                </a:lnTo>
                <a:lnTo>
                  <a:pt x="194845" y="19674"/>
                </a:lnTo>
                <a:lnTo>
                  <a:pt x="194667" y="22479"/>
                </a:lnTo>
                <a:lnTo>
                  <a:pt x="193595" y="25300"/>
                </a:lnTo>
                <a:lnTo>
                  <a:pt x="188913" y="31928"/>
                </a:lnTo>
                <a:lnTo>
                  <a:pt x="184997" y="36362"/>
                </a:lnTo>
                <a:lnTo>
                  <a:pt x="180481" y="41223"/>
                </a:lnTo>
                <a:lnTo>
                  <a:pt x="160473" y="61717"/>
                </a:lnTo>
                <a:lnTo>
                  <a:pt x="153655" y="67652"/>
                </a:lnTo>
                <a:lnTo>
                  <a:pt x="147204" y="72560"/>
                </a:lnTo>
                <a:lnTo>
                  <a:pt x="140998" y="76786"/>
                </a:lnTo>
                <a:lnTo>
                  <a:pt x="135909" y="80555"/>
                </a:lnTo>
                <a:lnTo>
                  <a:pt x="131564" y="84020"/>
                </a:lnTo>
                <a:lnTo>
                  <a:pt x="127714" y="87282"/>
                </a:lnTo>
                <a:lnTo>
                  <a:pt x="120386" y="90410"/>
                </a:lnTo>
                <a:lnTo>
                  <a:pt x="110736" y="93448"/>
                </a:lnTo>
                <a:lnTo>
                  <a:pt x="99542" y="96426"/>
                </a:lnTo>
                <a:lnTo>
                  <a:pt x="92079" y="99363"/>
                </a:lnTo>
                <a:lnTo>
                  <a:pt x="87104" y="102274"/>
                </a:lnTo>
                <a:lnTo>
                  <a:pt x="83787" y="105167"/>
                </a:lnTo>
                <a:lnTo>
                  <a:pt x="81575" y="106143"/>
                </a:lnTo>
                <a:lnTo>
                  <a:pt x="80101" y="105842"/>
                </a:lnTo>
                <a:lnTo>
                  <a:pt x="79118" y="104688"/>
                </a:lnTo>
                <a:lnTo>
                  <a:pt x="79416" y="103919"/>
                </a:lnTo>
                <a:lnTo>
                  <a:pt x="80567" y="103406"/>
                </a:lnTo>
                <a:lnTo>
                  <a:pt x="82286" y="103064"/>
                </a:lnTo>
                <a:lnTo>
                  <a:pt x="102909" y="98032"/>
                </a:lnTo>
                <a:lnTo>
                  <a:pt x="112421" y="96624"/>
                </a:lnTo>
                <a:lnTo>
                  <a:pt x="122573" y="95685"/>
                </a:lnTo>
                <a:lnTo>
                  <a:pt x="141154" y="94643"/>
                </a:lnTo>
                <a:lnTo>
                  <a:pt x="152588" y="94179"/>
                </a:lnTo>
                <a:lnTo>
                  <a:pt x="158875" y="95008"/>
                </a:lnTo>
                <a:lnTo>
                  <a:pt x="165924" y="96513"/>
                </a:lnTo>
                <a:lnTo>
                  <a:pt x="173481" y="98469"/>
                </a:lnTo>
                <a:lnTo>
                  <a:pt x="179471" y="100725"/>
                </a:lnTo>
                <a:lnTo>
                  <a:pt x="184418" y="103182"/>
                </a:lnTo>
                <a:lnTo>
                  <a:pt x="188668" y="105772"/>
                </a:lnTo>
                <a:lnTo>
                  <a:pt x="192453" y="108452"/>
                </a:lnTo>
                <a:lnTo>
                  <a:pt x="195930" y="111191"/>
                </a:lnTo>
                <a:lnTo>
                  <a:pt x="199200" y="113969"/>
                </a:lnTo>
                <a:lnTo>
                  <a:pt x="201380" y="116774"/>
                </a:lnTo>
                <a:lnTo>
                  <a:pt x="203802" y="122430"/>
                </a:lnTo>
                <a:lnTo>
                  <a:pt x="204879" y="128119"/>
                </a:lnTo>
                <a:lnTo>
                  <a:pt x="205166" y="130970"/>
                </a:lnTo>
                <a:lnTo>
                  <a:pt x="204405" y="134775"/>
                </a:lnTo>
                <a:lnTo>
                  <a:pt x="202945" y="139217"/>
                </a:lnTo>
                <a:lnTo>
                  <a:pt x="201019" y="144083"/>
                </a:lnTo>
                <a:lnTo>
                  <a:pt x="198783" y="148280"/>
                </a:lnTo>
                <a:lnTo>
                  <a:pt x="196339" y="152030"/>
                </a:lnTo>
                <a:lnTo>
                  <a:pt x="191085" y="158737"/>
                </a:lnTo>
                <a:lnTo>
                  <a:pt x="185574" y="164893"/>
                </a:lnTo>
                <a:lnTo>
                  <a:pt x="168015" y="182815"/>
                </a:lnTo>
                <a:lnTo>
                  <a:pt x="161540" y="188389"/>
                </a:lnTo>
                <a:lnTo>
                  <a:pt x="155319" y="193057"/>
                </a:lnTo>
                <a:lnTo>
                  <a:pt x="149266" y="197121"/>
                </a:lnTo>
                <a:lnTo>
                  <a:pt x="143326" y="200784"/>
                </a:lnTo>
                <a:lnTo>
                  <a:pt x="137460" y="204178"/>
                </a:lnTo>
                <a:lnTo>
                  <a:pt x="125863" y="210488"/>
                </a:lnTo>
                <a:lnTo>
                  <a:pt x="114360" y="216469"/>
                </a:lnTo>
                <a:lnTo>
                  <a:pt x="107672" y="218444"/>
                </a:lnTo>
                <a:lnTo>
                  <a:pt x="100357" y="219762"/>
                </a:lnTo>
                <a:lnTo>
                  <a:pt x="92622" y="220640"/>
                </a:lnTo>
                <a:lnTo>
                  <a:pt x="84608" y="221225"/>
                </a:lnTo>
                <a:lnTo>
                  <a:pt x="76408" y="221615"/>
                </a:lnTo>
                <a:lnTo>
                  <a:pt x="60629" y="222049"/>
                </a:lnTo>
                <a:lnTo>
                  <a:pt x="47266" y="222242"/>
                </a:lnTo>
                <a:lnTo>
                  <a:pt x="39131" y="221340"/>
                </a:lnTo>
                <a:lnTo>
                  <a:pt x="29898" y="219787"/>
                </a:lnTo>
                <a:lnTo>
                  <a:pt x="19932" y="217799"/>
                </a:lnTo>
                <a:lnTo>
                  <a:pt x="12335" y="216474"/>
                </a:lnTo>
                <a:lnTo>
                  <a:pt x="6318" y="215590"/>
                </a:lnTo>
                <a:lnTo>
                  <a:pt x="0" y="213823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SMARTPenAnnotation43"/>
          <p:cNvSpPr/>
          <p:nvPr/>
        </p:nvSpPr>
        <p:spPr>
          <a:xfrm>
            <a:off x="6967440" y="4843440"/>
            <a:ext cx="322200" cy="93600"/>
          </a:xfrm>
          <a:custGeom>
            <a:avLst/>
            <a:gdLst>
              <a:gd name="textAreaLeft" fmla="*/ 0 w 322200"/>
              <a:gd name="textAreaRight" fmla="*/ 322560 w 3222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21860" h="94299">
                <a:moveTo>
                  <a:pt x="47539" y="0"/>
                </a:moveTo>
                <a:lnTo>
                  <a:pt x="38437" y="0"/>
                </a:lnTo>
                <a:lnTo>
                  <a:pt x="35757" y="953"/>
                </a:lnTo>
                <a:lnTo>
                  <a:pt x="33969" y="2540"/>
                </a:lnTo>
                <a:lnTo>
                  <a:pt x="32777" y="4551"/>
                </a:lnTo>
                <a:lnTo>
                  <a:pt x="31983" y="6844"/>
                </a:lnTo>
                <a:lnTo>
                  <a:pt x="31453" y="9325"/>
                </a:lnTo>
                <a:lnTo>
                  <a:pt x="31100" y="11932"/>
                </a:lnTo>
                <a:lnTo>
                  <a:pt x="29913" y="14622"/>
                </a:lnTo>
                <a:lnTo>
                  <a:pt x="28168" y="17368"/>
                </a:lnTo>
                <a:lnTo>
                  <a:pt x="26053" y="20151"/>
                </a:lnTo>
                <a:lnTo>
                  <a:pt x="23690" y="24864"/>
                </a:lnTo>
                <a:lnTo>
                  <a:pt x="21162" y="30864"/>
                </a:lnTo>
                <a:lnTo>
                  <a:pt x="18524" y="37721"/>
                </a:lnTo>
                <a:lnTo>
                  <a:pt x="16766" y="43245"/>
                </a:lnTo>
                <a:lnTo>
                  <a:pt x="15594" y="47880"/>
                </a:lnTo>
                <a:lnTo>
                  <a:pt x="14812" y="51923"/>
                </a:lnTo>
                <a:lnTo>
                  <a:pt x="13339" y="55570"/>
                </a:lnTo>
                <a:lnTo>
                  <a:pt x="11404" y="58954"/>
                </a:lnTo>
                <a:lnTo>
                  <a:pt x="6006" y="66679"/>
                </a:lnTo>
                <a:lnTo>
                  <a:pt x="4610" y="68265"/>
                </a:lnTo>
                <a:lnTo>
                  <a:pt x="519" y="72568"/>
                </a:lnTo>
                <a:lnTo>
                  <a:pt x="0" y="74096"/>
                </a:lnTo>
                <a:lnTo>
                  <a:pt x="606" y="75115"/>
                </a:lnTo>
                <a:lnTo>
                  <a:pt x="1963" y="75794"/>
                </a:lnTo>
                <a:lnTo>
                  <a:pt x="6011" y="76549"/>
                </a:lnTo>
                <a:lnTo>
                  <a:pt x="14794" y="76884"/>
                </a:lnTo>
                <a:lnTo>
                  <a:pt x="34574" y="77033"/>
                </a:lnTo>
                <a:lnTo>
                  <a:pt x="48420" y="76121"/>
                </a:lnTo>
                <a:lnTo>
                  <a:pt x="64319" y="74559"/>
                </a:lnTo>
                <a:lnTo>
                  <a:pt x="81587" y="72567"/>
                </a:lnTo>
                <a:lnTo>
                  <a:pt x="95955" y="71238"/>
                </a:lnTo>
                <a:lnTo>
                  <a:pt x="108391" y="70352"/>
                </a:lnTo>
                <a:lnTo>
                  <a:pt x="128877" y="69367"/>
                </a:lnTo>
                <a:lnTo>
                  <a:pt x="144332" y="68930"/>
                </a:lnTo>
                <a:lnTo>
                  <a:pt x="201189" y="68594"/>
                </a:lnTo>
                <a:lnTo>
                  <a:pt x="229126" y="68583"/>
                </a:lnTo>
                <a:lnTo>
                  <a:pt x="237177" y="69535"/>
                </a:lnTo>
                <a:lnTo>
                  <a:pt x="245402" y="71121"/>
                </a:lnTo>
                <a:lnTo>
                  <a:pt x="253742" y="73132"/>
                </a:lnTo>
                <a:lnTo>
                  <a:pt x="260255" y="74472"/>
                </a:lnTo>
                <a:lnTo>
                  <a:pt x="270032" y="75961"/>
                </a:lnTo>
                <a:lnTo>
                  <a:pt x="276830" y="77311"/>
                </a:lnTo>
                <a:lnTo>
                  <a:pt x="294543" y="81350"/>
                </a:lnTo>
                <a:lnTo>
                  <a:pt x="301744" y="83762"/>
                </a:lnTo>
                <a:lnTo>
                  <a:pt x="307497" y="86321"/>
                </a:lnTo>
                <a:lnTo>
                  <a:pt x="321859" y="9429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SMARTPenAnnotation44"/>
          <p:cNvSpPr/>
          <p:nvPr/>
        </p:nvSpPr>
        <p:spPr>
          <a:xfrm>
            <a:off x="7194600" y="4818240"/>
            <a:ext cx="9360" cy="307800"/>
          </a:xfrm>
          <a:custGeom>
            <a:avLst/>
            <a:gdLst>
              <a:gd name="textAreaLeft" fmla="*/ 0 w 9360"/>
              <a:gd name="textAreaRight" fmla="*/ 9720 w 93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574" h="308610">
                <a:moveTo>
                  <a:pt x="8573" y="0"/>
                </a:moveTo>
                <a:lnTo>
                  <a:pt x="4022" y="9102"/>
                </a:lnTo>
                <a:lnTo>
                  <a:pt x="2682" y="12735"/>
                </a:lnTo>
                <a:lnTo>
                  <a:pt x="1788" y="16110"/>
                </a:lnTo>
                <a:lnTo>
                  <a:pt x="1193" y="19312"/>
                </a:lnTo>
                <a:lnTo>
                  <a:pt x="531" y="66050"/>
                </a:lnTo>
                <a:lnTo>
                  <a:pt x="0" y="308609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SMARTPenAnnotation45"/>
          <p:cNvSpPr/>
          <p:nvPr/>
        </p:nvSpPr>
        <p:spPr>
          <a:xfrm>
            <a:off x="5850000" y="5513400"/>
            <a:ext cx="263520" cy="333360"/>
          </a:xfrm>
          <a:custGeom>
            <a:avLst/>
            <a:gdLst>
              <a:gd name="textAreaLeft" fmla="*/ 0 w 263520"/>
              <a:gd name="textAreaRight" fmla="*/ 263880 w 2635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64300" h="332118">
                <a:moveTo>
                  <a:pt x="111443" y="66519"/>
                </a:moveTo>
                <a:lnTo>
                  <a:pt x="115993" y="52867"/>
                </a:lnTo>
                <a:lnTo>
                  <a:pt x="120767" y="43624"/>
                </a:lnTo>
                <a:lnTo>
                  <a:pt x="126065" y="36341"/>
                </a:lnTo>
                <a:lnTo>
                  <a:pt x="131594" y="29929"/>
                </a:lnTo>
                <a:lnTo>
                  <a:pt x="139165" y="25933"/>
                </a:lnTo>
                <a:lnTo>
                  <a:pt x="149926" y="21364"/>
                </a:lnTo>
                <a:lnTo>
                  <a:pt x="162816" y="16414"/>
                </a:lnTo>
                <a:lnTo>
                  <a:pt x="173314" y="12160"/>
                </a:lnTo>
                <a:lnTo>
                  <a:pt x="182217" y="8373"/>
                </a:lnTo>
                <a:lnTo>
                  <a:pt x="190058" y="4895"/>
                </a:lnTo>
                <a:lnTo>
                  <a:pt x="197190" y="2576"/>
                </a:lnTo>
                <a:lnTo>
                  <a:pt x="203851" y="1030"/>
                </a:lnTo>
                <a:lnTo>
                  <a:pt x="210195" y="0"/>
                </a:lnTo>
                <a:lnTo>
                  <a:pt x="215378" y="266"/>
                </a:lnTo>
                <a:lnTo>
                  <a:pt x="219786" y="1395"/>
                </a:lnTo>
                <a:lnTo>
                  <a:pt x="227222" y="4238"/>
                </a:lnTo>
                <a:lnTo>
                  <a:pt x="233703" y="5501"/>
                </a:lnTo>
                <a:lnTo>
                  <a:pt x="239758" y="8602"/>
                </a:lnTo>
                <a:lnTo>
                  <a:pt x="242706" y="10763"/>
                </a:lnTo>
                <a:lnTo>
                  <a:pt x="244672" y="13156"/>
                </a:lnTo>
                <a:lnTo>
                  <a:pt x="245982" y="15704"/>
                </a:lnTo>
                <a:lnTo>
                  <a:pt x="246856" y="18355"/>
                </a:lnTo>
                <a:lnTo>
                  <a:pt x="247438" y="22980"/>
                </a:lnTo>
                <a:lnTo>
                  <a:pt x="247826" y="28920"/>
                </a:lnTo>
                <a:lnTo>
                  <a:pt x="248257" y="42189"/>
                </a:lnTo>
                <a:lnTo>
                  <a:pt x="248449" y="54436"/>
                </a:lnTo>
                <a:lnTo>
                  <a:pt x="247548" y="60368"/>
                </a:lnTo>
                <a:lnTo>
                  <a:pt x="245994" y="66229"/>
                </a:lnTo>
                <a:lnTo>
                  <a:pt x="244007" y="72040"/>
                </a:lnTo>
                <a:lnTo>
                  <a:pt x="240776" y="77820"/>
                </a:lnTo>
                <a:lnTo>
                  <a:pt x="236717" y="83578"/>
                </a:lnTo>
                <a:lnTo>
                  <a:pt x="232106" y="89322"/>
                </a:lnTo>
                <a:lnTo>
                  <a:pt x="228080" y="95056"/>
                </a:lnTo>
                <a:lnTo>
                  <a:pt x="224444" y="100783"/>
                </a:lnTo>
                <a:lnTo>
                  <a:pt x="221067" y="106507"/>
                </a:lnTo>
                <a:lnTo>
                  <a:pt x="216910" y="112228"/>
                </a:lnTo>
                <a:lnTo>
                  <a:pt x="212234" y="117947"/>
                </a:lnTo>
                <a:lnTo>
                  <a:pt x="207212" y="123664"/>
                </a:lnTo>
                <a:lnTo>
                  <a:pt x="201959" y="129381"/>
                </a:lnTo>
                <a:lnTo>
                  <a:pt x="191042" y="140813"/>
                </a:lnTo>
                <a:lnTo>
                  <a:pt x="185464" y="145576"/>
                </a:lnTo>
                <a:lnTo>
                  <a:pt x="179840" y="149703"/>
                </a:lnTo>
                <a:lnTo>
                  <a:pt x="152576" y="167723"/>
                </a:lnTo>
                <a:lnTo>
                  <a:pt x="146485" y="172088"/>
                </a:lnTo>
                <a:lnTo>
                  <a:pt x="141471" y="175951"/>
                </a:lnTo>
                <a:lnTo>
                  <a:pt x="137177" y="179479"/>
                </a:lnTo>
                <a:lnTo>
                  <a:pt x="133361" y="180878"/>
                </a:lnTo>
                <a:lnTo>
                  <a:pt x="129865" y="180859"/>
                </a:lnTo>
                <a:lnTo>
                  <a:pt x="126582" y="179893"/>
                </a:lnTo>
                <a:lnTo>
                  <a:pt x="125346" y="178297"/>
                </a:lnTo>
                <a:lnTo>
                  <a:pt x="125474" y="176280"/>
                </a:lnTo>
                <a:lnTo>
                  <a:pt x="127972" y="170750"/>
                </a:lnTo>
                <a:lnTo>
                  <a:pt x="132956" y="165242"/>
                </a:lnTo>
                <a:lnTo>
                  <a:pt x="138168" y="162814"/>
                </a:lnTo>
                <a:lnTo>
                  <a:pt x="145451" y="160243"/>
                </a:lnTo>
                <a:lnTo>
                  <a:pt x="154117" y="157577"/>
                </a:lnTo>
                <a:lnTo>
                  <a:pt x="161800" y="155799"/>
                </a:lnTo>
                <a:lnTo>
                  <a:pt x="168827" y="154614"/>
                </a:lnTo>
                <a:lnTo>
                  <a:pt x="175417" y="153824"/>
                </a:lnTo>
                <a:lnTo>
                  <a:pt x="181714" y="153297"/>
                </a:lnTo>
                <a:lnTo>
                  <a:pt x="187818" y="152946"/>
                </a:lnTo>
                <a:lnTo>
                  <a:pt x="199679" y="152557"/>
                </a:lnTo>
                <a:lnTo>
                  <a:pt x="224004" y="152285"/>
                </a:lnTo>
                <a:lnTo>
                  <a:pt x="227441" y="153224"/>
                </a:lnTo>
                <a:lnTo>
                  <a:pt x="233800" y="156807"/>
                </a:lnTo>
                <a:lnTo>
                  <a:pt x="237782" y="159096"/>
                </a:lnTo>
                <a:lnTo>
                  <a:pt x="247285" y="164180"/>
                </a:lnTo>
                <a:lnTo>
                  <a:pt x="250583" y="166869"/>
                </a:lnTo>
                <a:lnTo>
                  <a:pt x="252780" y="169614"/>
                </a:lnTo>
                <a:lnTo>
                  <a:pt x="256174" y="176156"/>
                </a:lnTo>
                <a:lnTo>
                  <a:pt x="260857" y="185414"/>
                </a:lnTo>
                <a:lnTo>
                  <a:pt x="262488" y="190550"/>
                </a:lnTo>
                <a:lnTo>
                  <a:pt x="263574" y="195879"/>
                </a:lnTo>
                <a:lnTo>
                  <a:pt x="264299" y="201337"/>
                </a:lnTo>
                <a:lnTo>
                  <a:pt x="263829" y="206880"/>
                </a:lnTo>
                <a:lnTo>
                  <a:pt x="262564" y="212481"/>
                </a:lnTo>
                <a:lnTo>
                  <a:pt x="260768" y="218119"/>
                </a:lnTo>
                <a:lnTo>
                  <a:pt x="258618" y="223783"/>
                </a:lnTo>
                <a:lnTo>
                  <a:pt x="256232" y="229465"/>
                </a:lnTo>
                <a:lnTo>
                  <a:pt x="253689" y="235157"/>
                </a:lnTo>
                <a:lnTo>
                  <a:pt x="250088" y="240857"/>
                </a:lnTo>
                <a:lnTo>
                  <a:pt x="245783" y="246562"/>
                </a:lnTo>
                <a:lnTo>
                  <a:pt x="241008" y="252270"/>
                </a:lnTo>
                <a:lnTo>
                  <a:pt x="236872" y="257980"/>
                </a:lnTo>
                <a:lnTo>
                  <a:pt x="233162" y="263692"/>
                </a:lnTo>
                <a:lnTo>
                  <a:pt x="229737" y="269405"/>
                </a:lnTo>
                <a:lnTo>
                  <a:pt x="224595" y="275120"/>
                </a:lnTo>
                <a:lnTo>
                  <a:pt x="218310" y="280834"/>
                </a:lnTo>
                <a:lnTo>
                  <a:pt x="211262" y="286548"/>
                </a:lnTo>
                <a:lnTo>
                  <a:pt x="204659" y="291310"/>
                </a:lnTo>
                <a:lnTo>
                  <a:pt x="198352" y="295437"/>
                </a:lnTo>
                <a:lnTo>
                  <a:pt x="192242" y="299141"/>
                </a:lnTo>
                <a:lnTo>
                  <a:pt x="186264" y="302563"/>
                </a:lnTo>
                <a:lnTo>
                  <a:pt x="174542" y="308905"/>
                </a:lnTo>
                <a:lnTo>
                  <a:pt x="167797" y="311930"/>
                </a:lnTo>
                <a:lnTo>
                  <a:pt x="160442" y="314899"/>
                </a:lnTo>
                <a:lnTo>
                  <a:pt x="152681" y="317831"/>
                </a:lnTo>
                <a:lnTo>
                  <a:pt x="145602" y="320738"/>
                </a:lnTo>
                <a:lnTo>
                  <a:pt x="138978" y="323628"/>
                </a:lnTo>
                <a:lnTo>
                  <a:pt x="132657" y="326508"/>
                </a:lnTo>
                <a:lnTo>
                  <a:pt x="126538" y="328427"/>
                </a:lnTo>
                <a:lnTo>
                  <a:pt x="120554" y="329707"/>
                </a:lnTo>
                <a:lnTo>
                  <a:pt x="114659" y="330560"/>
                </a:lnTo>
                <a:lnTo>
                  <a:pt x="107872" y="331129"/>
                </a:lnTo>
                <a:lnTo>
                  <a:pt x="100490" y="331508"/>
                </a:lnTo>
                <a:lnTo>
                  <a:pt x="92710" y="331761"/>
                </a:lnTo>
                <a:lnTo>
                  <a:pt x="49907" y="332117"/>
                </a:lnTo>
                <a:lnTo>
                  <a:pt x="37081" y="331214"/>
                </a:lnTo>
                <a:lnTo>
                  <a:pt x="26626" y="329660"/>
                </a:lnTo>
                <a:lnTo>
                  <a:pt x="0" y="323694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SMARTPenAnnotation46"/>
          <p:cNvSpPr/>
          <p:nvPr/>
        </p:nvSpPr>
        <p:spPr>
          <a:xfrm>
            <a:off x="6278400" y="5632560"/>
            <a:ext cx="214560" cy="360"/>
          </a:xfrm>
          <a:custGeom>
            <a:avLst/>
            <a:gdLst>
              <a:gd name="textAreaLeft" fmla="*/ 0 w 214560"/>
              <a:gd name="textAreaRight" fmla="*/ 214920 w 2145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4314" h="1">
                <a:moveTo>
                  <a:pt x="0" y="0"/>
                </a:moveTo>
                <a:lnTo>
                  <a:pt x="214313" y="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SMARTPenAnnotation47"/>
          <p:cNvSpPr/>
          <p:nvPr/>
        </p:nvSpPr>
        <p:spPr>
          <a:xfrm>
            <a:off x="6346800" y="5537160"/>
            <a:ext cx="50760" cy="292320"/>
          </a:xfrm>
          <a:custGeom>
            <a:avLst/>
            <a:gdLst>
              <a:gd name="textAreaLeft" fmla="*/ 0 w 50760"/>
              <a:gd name="textAreaRight" fmla="*/ 51120 w 50760"/>
              <a:gd name="textAreaTop" fmla="*/ 0 h 292320"/>
              <a:gd name="textAreaBottom" fmla="*/ 292320 h 292320"/>
            </a:gdLst>
            <a:ahLst/>
            <a:rect l="textAreaLeft" t="textAreaTop" r="textAreaRight" b="textAreaBottom"/>
            <a:pathLst>
              <a:path w="50854" h="291466">
                <a:moveTo>
                  <a:pt x="50853" y="0"/>
                </a:moveTo>
                <a:lnTo>
                  <a:pt x="32650" y="4551"/>
                </a:lnTo>
                <a:lnTo>
                  <a:pt x="26335" y="6844"/>
                </a:lnTo>
                <a:lnTo>
                  <a:pt x="21173" y="9324"/>
                </a:lnTo>
                <a:lnTo>
                  <a:pt x="16779" y="11931"/>
                </a:lnTo>
                <a:lnTo>
                  <a:pt x="12897" y="14622"/>
                </a:lnTo>
                <a:lnTo>
                  <a:pt x="9357" y="17368"/>
                </a:lnTo>
                <a:lnTo>
                  <a:pt x="6044" y="20150"/>
                </a:lnTo>
                <a:lnTo>
                  <a:pt x="3835" y="25816"/>
                </a:lnTo>
                <a:lnTo>
                  <a:pt x="2363" y="33403"/>
                </a:lnTo>
                <a:lnTo>
                  <a:pt x="1381" y="42272"/>
                </a:lnTo>
                <a:lnTo>
                  <a:pt x="727" y="54851"/>
                </a:lnTo>
                <a:lnTo>
                  <a:pt x="0" y="86608"/>
                </a:lnTo>
                <a:lnTo>
                  <a:pt x="1711" y="104411"/>
                </a:lnTo>
                <a:lnTo>
                  <a:pt x="4757" y="122947"/>
                </a:lnTo>
                <a:lnTo>
                  <a:pt x="8692" y="141972"/>
                </a:lnTo>
                <a:lnTo>
                  <a:pt x="11315" y="157513"/>
                </a:lnTo>
                <a:lnTo>
                  <a:pt x="13065" y="170731"/>
                </a:lnTo>
                <a:lnTo>
                  <a:pt x="14231" y="182401"/>
                </a:lnTo>
                <a:lnTo>
                  <a:pt x="15961" y="195895"/>
                </a:lnTo>
                <a:lnTo>
                  <a:pt x="18067" y="210607"/>
                </a:lnTo>
                <a:lnTo>
                  <a:pt x="25136" y="29146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MARTPenAnnotation48"/>
          <p:cNvSpPr/>
          <p:nvPr/>
        </p:nvSpPr>
        <p:spPr>
          <a:xfrm>
            <a:off x="6634080" y="5425920"/>
            <a:ext cx="338400" cy="206640"/>
          </a:xfrm>
          <a:custGeom>
            <a:avLst/>
            <a:gdLst>
              <a:gd name="textAreaLeft" fmla="*/ 0 w 338400"/>
              <a:gd name="textAreaRight" fmla="*/ 338760 w 3384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37607" h="205741">
                <a:moveTo>
                  <a:pt x="63286" y="0"/>
                </a:moveTo>
                <a:lnTo>
                  <a:pt x="63286" y="48522"/>
                </a:lnTo>
                <a:lnTo>
                  <a:pt x="62333" y="54255"/>
                </a:lnTo>
                <a:lnTo>
                  <a:pt x="60746" y="59983"/>
                </a:lnTo>
                <a:lnTo>
                  <a:pt x="58735" y="65706"/>
                </a:lnTo>
                <a:lnTo>
                  <a:pt x="46803" y="96515"/>
                </a:lnTo>
                <a:lnTo>
                  <a:pt x="26652" y="144908"/>
                </a:lnTo>
                <a:lnTo>
                  <a:pt x="20766" y="157565"/>
                </a:lnTo>
                <a:lnTo>
                  <a:pt x="15889" y="166956"/>
                </a:lnTo>
                <a:lnTo>
                  <a:pt x="11685" y="174169"/>
                </a:lnTo>
                <a:lnTo>
                  <a:pt x="4475" y="187264"/>
                </a:lnTo>
                <a:lnTo>
                  <a:pt x="1218" y="193422"/>
                </a:lnTo>
                <a:lnTo>
                  <a:pt x="0" y="197528"/>
                </a:lnTo>
                <a:lnTo>
                  <a:pt x="140" y="200266"/>
                </a:lnTo>
                <a:lnTo>
                  <a:pt x="1186" y="202091"/>
                </a:lnTo>
                <a:lnTo>
                  <a:pt x="2836" y="202354"/>
                </a:lnTo>
                <a:lnTo>
                  <a:pt x="4889" y="201578"/>
                </a:lnTo>
                <a:lnTo>
                  <a:pt x="14868" y="195934"/>
                </a:lnTo>
                <a:lnTo>
                  <a:pt x="23669" y="190905"/>
                </a:lnTo>
                <a:lnTo>
                  <a:pt x="30756" y="185494"/>
                </a:lnTo>
                <a:lnTo>
                  <a:pt x="35884" y="182718"/>
                </a:lnTo>
                <a:lnTo>
                  <a:pt x="42160" y="179914"/>
                </a:lnTo>
                <a:lnTo>
                  <a:pt x="49202" y="177093"/>
                </a:lnTo>
                <a:lnTo>
                  <a:pt x="55802" y="175212"/>
                </a:lnTo>
                <a:lnTo>
                  <a:pt x="62106" y="173958"/>
                </a:lnTo>
                <a:lnTo>
                  <a:pt x="68214" y="173122"/>
                </a:lnTo>
                <a:lnTo>
                  <a:pt x="87701" y="169654"/>
                </a:lnTo>
                <a:lnTo>
                  <a:pt x="99565" y="167395"/>
                </a:lnTo>
                <a:lnTo>
                  <a:pt x="110333" y="165889"/>
                </a:lnTo>
                <a:lnTo>
                  <a:pt x="120368" y="164885"/>
                </a:lnTo>
                <a:lnTo>
                  <a:pt x="129915" y="164216"/>
                </a:lnTo>
                <a:lnTo>
                  <a:pt x="139138" y="163770"/>
                </a:lnTo>
                <a:lnTo>
                  <a:pt x="157006" y="163274"/>
                </a:lnTo>
                <a:lnTo>
                  <a:pt x="193585" y="162930"/>
                </a:lnTo>
                <a:lnTo>
                  <a:pt x="201587" y="162912"/>
                </a:lnTo>
                <a:lnTo>
                  <a:pt x="208826" y="163853"/>
                </a:lnTo>
                <a:lnTo>
                  <a:pt x="215558" y="165433"/>
                </a:lnTo>
                <a:lnTo>
                  <a:pt x="221951" y="167439"/>
                </a:lnTo>
                <a:lnTo>
                  <a:pt x="267354" y="183914"/>
                </a:lnTo>
                <a:lnTo>
                  <a:pt x="281246" y="188332"/>
                </a:lnTo>
                <a:lnTo>
                  <a:pt x="292413" y="191277"/>
                </a:lnTo>
                <a:lnTo>
                  <a:pt x="337606" y="20574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SMARTPenAnnotation49"/>
          <p:cNvSpPr/>
          <p:nvPr/>
        </p:nvSpPr>
        <p:spPr>
          <a:xfrm>
            <a:off x="6851520" y="5435640"/>
            <a:ext cx="52560" cy="333360"/>
          </a:xfrm>
          <a:custGeom>
            <a:avLst/>
            <a:gdLst>
              <a:gd name="textAreaLeft" fmla="*/ 0 w 52560"/>
              <a:gd name="textAreaRight" fmla="*/ 52920 w 52560"/>
              <a:gd name="textAreaTop" fmla="*/ 0 h 333360"/>
              <a:gd name="textAreaBottom" fmla="*/ 333360 h 333360"/>
            </a:gdLst>
            <a:ahLst/>
            <a:rect l="textAreaLeft" t="textAreaTop" r="textAreaRight" b="textAreaBottom"/>
            <a:pathLst>
              <a:path w="51436" h="334328">
                <a:moveTo>
                  <a:pt x="51435" y="0"/>
                </a:moveTo>
                <a:lnTo>
                  <a:pt x="37783" y="0"/>
                </a:lnTo>
                <a:lnTo>
                  <a:pt x="33762" y="952"/>
                </a:lnTo>
                <a:lnTo>
                  <a:pt x="31081" y="2540"/>
                </a:lnTo>
                <a:lnTo>
                  <a:pt x="29293" y="4551"/>
                </a:lnTo>
                <a:lnTo>
                  <a:pt x="28101" y="6843"/>
                </a:lnTo>
                <a:lnTo>
                  <a:pt x="26777" y="11931"/>
                </a:lnTo>
                <a:lnTo>
                  <a:pt x="26032" y="20150"/>
                </a:lnTo>
                <a:lnTo>
                  <a:pt x="24975" y="25816"/>
                </a:lnTo>
                <a:lnTo>
                  <a:pt x="21260" y="42271"/>
                </a:lnTo>
                <a:lnTo>
                  <a:pt x="19889" y="50088"/>
                </a:lnTo>
                <a:lnTo>
                  <a:pt x="18974" y="57205"/>
                </a:lnTo>
                <a:lnTo>
                  <a:pt x="18364" y="63854"/>
                </a:lnTo>
                <a:lnTo>
                  <a:pt x="17688" y="114422"/>
                </a:lnTo>
                <a:lnTo>
                  <a:pt x="17178" y="262543"/>
                </a:lnTo>
                <a:lnTo>
                  <a:pt x="16214" y="273136"/>
                </a:lnTo>
                <a:lnTo>
                  <a:pt x="14620" y="284008"/>
                </a:lnTo>
                <a:lnTo>
                  <a:pt x="12604" y="295066"/>
                </a:lnTo>
                <a:lnTo>
                  <a:pt x="10308" y="304343"/>
                </a:lnTo>
                <a:lnTo>
                  <a:pt x="7825" y="312433"/>
                </a:lnTo>
                <a:lnTo>
                  <a:pt x="0" y="334327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SMARTPenAnnotation50"/>
          <p:cNvSpPr/>
          <p:nvPr/>
        </p:nvSpPr>
        <p:spPr>
          <a:xfrm>
            <a:off x="5656320" y="5614920"/>
            <a:ext cx="252360" cy="189000"/>
          </a:xfrm>
          <a:custGeom>
            <a:avLst/>
            <a:gdLst>
              <a:gd name="textAreaLeft" fmla="*/ 0 w 252360"/>
              <a:gd name="textAreaRight" fmla="*/ 252720 w 2523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52726" h="188596">
                <a:moveTo>
                  <a:pt x="141283" y="0"/>
                </a:moveTo>
                <a:lnTo>
                  <a:pt x="129351" y="11932"/>
                </a:lnTo>
                <a:lnTo>
                  <a:pt x="125709" y="17480"/>
                </a:lnTo>
                <a:lnTo>
                  <a:pt x="121375" y="24988"/>
                </a:lnTo>
                <a:lnTo>
                  <a:pt x="112432" y="41586"/>
                </a:lnTo>
                <a:lnTo>
                  <a:pt x="105283" y="55313"/>
                </a:lnTo>
                <a:lnTo>
                  <a:pt x="102043" y="60688"/>
                </a:lnTo>
                <a:lnTo>
                  <a:pt x="98930" y="65224"/>
                </a:lnTo>
                <a:lnTo>
                  <a:pt x="95903" y="69200"/>
                </a:lnTo>
                <a:lnTo>
                  <a:pt x="93885" y="72804"/>
                </a:lnTo>
                <a:lnTo>
                  <a:pt x="92539" y="76158"/>
                </a:lnTo>
                <a:lnTo>
                  <a:pt x="91642" y="79347"/>
                </a:lnTo>
                <a:lnTo>
                  <a:pt x="89139" y="83379"/>
                </a:lnTo>
                <a:lnTo>
                  <a:pt x="85565" y="87971"/>
                </a:lnTo>
                <a:lnTo>
                  <a:pt x="81278" y="92937"/>
                </a:lnTo>
                <a:lnTo>
                  <a:pt x="78420" y="97200"/>
                </a:lnTo>
                <a:lnTo>
                  <a:pt x="76514" y="100995"/>
                </a:lnTo>
                <a:lnTo>
                  <a:pt x="75244" y="104478"/>
                </a:lnTo>
                <a:lnTo>
                  <a:pt x="71540" y="108705"/>
                </a:lnTo>
                <a:lnTo>
                  <a:pt x="66212" y="113427"/>
                </a:lnTo>
                <a:lnTo>
                  <a:pt x="59803" y="118480"/>
                </a:lnTo>
                <a:lnTo>
                  <a:pt x="54579" y="122802"/>
                </a:lnTo>
                <a:lnTo>
                  <a:pt x="50143" y="126635"/>
                </a:lnTo>
                <a:lnTo>
                  <a:pt x="46233" y="130144"/>
                </a:lnTo>
                <a:lnTo>
                  <a:pt x="39348" y="136582"/>
                </a:lnTo>
                <a:lnTo>
                  <a:pt x="36179" y="139632"/>
                </a:lnTo>
                <a:lnTo>
                  <a:pt x="31209" y="143571"/>
                </a:lnTo>
                <a:lnTo>
                  <a:pt x="25038" y="148101"/>
                </a:lnTo>
                <a:lnTo>
                  <a:pt x="8254" y="159958"/>
                </a:lnTo>
                <a:lnTo>
                  <a:pt x="3419" y="164120"/>
                </a:lnTo>
                <a:lnTo>
                  <a:pt x="796" y="166564"/>
                </a:lnTo>
                <a:lnTo>
                  <a:pt x="0" y="168192"/>
                </a:lnTo>
                <a:lnTo>
                  <a:pt x="422" y="169278"/>
                </a:lnTo>
                <a:lnTo>
                  <a:pt x="1655" y="170002"/>
                </a:lnTo>
                <a:lnTo>
                  <a:pt x="5566" y="170807"/>
                </a:lnTo>
                <a:lnTo>
                  <a:pt x="11432" y="171164"/>
                </a:lnTo>
                <a:lnTo>
                  <a:pt x="20389" y="171323"/>
                </a:lnTo>
                <a:lnTo>
                  <a:pt x="40693" y="171412"/>
                </a:lnTo>
                <a:lnTo>
                  <a:pt x="56125" y="172378"/>
                </a:lnTo>
                <a:lnTo>
                  <a:pt x="120285" y="177334"/>
                </a:lnTo>
                <a:lnTo>
                  <a:pt x="149095" y="178827"/>
                </a:lnTo>
                <a:lnTo>
                  <a:pt x="171425" y="179491"/>
                </a:lnTo>
                <a:lnTo>
                  <a:pt x="181380" y="179668"/>
                </a:lnTo>
                <a:lnTo>
                  <a:pt x="189922" y="180739"/>
                </a:lnTo>
                <a:lnTo>
                  <a:pt x="197522" y="182406"/>
                </a:lnTo>
                <a:lnTo>
                  <a:pt x="204493" y="184469"/>
                </a:lnTo>
                <a:lnTo>
                  <a:pt x="211998" y="185844"/>
                </a:lnTo>
                <a:lnTo>
                  <a:pt x="219859" y="186761"/>
                </a:lnTo>
                <a:lnTo>
                  <a:pt x="252725" y="18859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SMARTPenAnnotation51"/>
          <p:cNvSpPr/>
          <p:nvPr/>
        </p:nvSpPr>
        <p:spPr>
          <a:xfrm>
            <a:off x="6473880" y="5649840"/>
            <a:ext cx="198360" cy="101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98830" h="102871">
                <a:moveTo>
                  <a:pt x="104532" y="0"/>
                </a:moveTo>
                <a:lnTo>
                  <a:pt x="82389" y="7381"/>
                </a:lnTo>
                <a:lnTo>
                  <a:pt x="77863" y="10583"/>
                </a:lnTo>
                <a:lnTo>
                  <a:pt x="75323" y="12770"/>
                </a:lnTo>
                <a:lnTo>
                  <a:pt x="71724" y="16134"/>
                </a:lnTo>
                <a:lnTo>
                  <a:pt x="62645" y="24951"/>
                </a:lnTo>
                <a:lnTo>
                  <a:pt x="59462" y="29016"/>
                </a:lnTo>
                <a:lnTo>
                  <a:pt x="57341" y="32679"/>
                </a:lnTo>
                <a:lnTo>
                  <a:pt x="55926" y="36074"/>
                </a:lnTo>
                <a:lnTo>
                  <a:pt x="54030" y="39289"/>
                </a:lnTo>
                <a:lnTo>
                  <a:pt x="51814" y="42386"/>
                </a:lnTo>
                <a:lnTo>
                  <a:pt x="49384" y="45402"/>
                </a:lnTo>
                <a:lnTo>
                  <a:pt x="45858" y="48365"/>
                </a:lnTo>
                <a:lnTo>
                  <a:pt x="41604" y="51294"/>
                </a:lnTo>
                <a:lnTo>
                  <a:pt x="36862" y="54198"/>
                </a:lnTo>
                <a:lnTo>
                  <a:pt x="32749" y="57087"/>
                </a:lnTo>
                <a:lnTo>
                  <a:pt x="29054" y="59966"/>
                </a:lnTo>
                <a:lnTo>
                  <a:pt x="25638" y="62837"/>
                </a:lnTo>
                <a:lnTo>
                  <a:pt x="22408" y="64752"/>
                </a:lnTo>
                <a:lnTo>
                  <a:pt x="16280" y="66879"/>
                </a:lnTo>
                <a:lnTo>
                  <a:pt x="12360" y="68398"/>
                </a:lnTo>
                <a:lnTo>
                  <a:pt x="7841" y="70364"/>
                </a:lnTo>
                <a:lnTo>
                  <a:pt x="2924" y="72627"/>
                </a:lnTo>
                <a:lnTo>
                  <a:pt x="598" y="74135"/>
                </a:lnTo>
                <a:lnTo>
                  <a:pt x="0" y="75141"/>
                </a:lnTo>
                <a:lnTo>
                  <a:pt x="554" y="75811"/>
                </a:lnTo>
                <a:lnTo>
                  <a:pt x="923" y="77211"/>
                </a:lnTo>
                <a:lnTo>
                  <a:pt x="1169" y="79097"/>
                </a:lnTo>
                <a:lnTo>
                  <a:pt x="1333" y="81306"/>
                </a:lnTo>
                <a:lnTo>
                  <a:pt x="2396" y="82779"/>
                </a:lnTo>
                <a:lnTo>
                  <a:pt x="4056" y="83761"/>
                </a:lnTo>
                <a:lnTo>
                  <a:pt x="6115" y="84416"/>
                </a:lnTo>
                <a:lnTo>
                  <a:pt x="8441" y="85805"/>
                </a:lnTo>
                <a:lnTo>
                  <a:pt x="10944" y="87683"/>
                </a:lnTo>
                <a:lnTo>
                  <a:pt x="13564" y="89888"/>
                </a:lnTo>
                <a:lnTo>
                  <a:pt x="16264" y="91358"/>
                </a:lnTo>
                <a:lnTo>
                  <a:pt x="21804" y="92991"/>
                </a:lnTo>
                <a:lnTo>
                  <a:pt x="26520" y="93427"/>
                </a:lnTo>
                <a:lnTo>
                  <a:pt x="32521" y="93717"/>
                </a:lnTo>
                <a:lnTo>
                  <a:pt x="53583" y="94183"/>
                </a:lnTo>
                <a:lnTo>
                  <a:pt x="63824" y="94264"/>
                </a:lnTo>
                <a:lnTo>
                  <a:pt x="71679" y="95227"/>
                </a:lnTo>
                <a:lnTo>
                  <a:pt x="95645" y="98839"/>
                </a:lnTo>
                <a:lnTo>
                  <a:pt x="110038" y="100182"/>
                </a:lnTo>
                <a:lnTo>
                  <a:pt x="125347" y="101078"/>
                </a:lnTo>
                <a:lnTo>
                  <a:pt x="198829" y="10287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SMARTPenAnnotation52"/>
          <p:cNvSpPr/>
          <p:nvPr/>
        </p:nvSpPr>
        <p:spPr>
          <a:xfrm>
            <a:off x="7161120" y="5546880"/>
            <a:ext cx="222480" cy="17280"/>
          </a:xfrm>
          <a:custGeom>
            <a:avLst/>
            <a:gdLst>
              <a:gd name="textAreaLeft" fmla="*/ 0 w 222480"/>
              <a:gd name="textAreaRight" fmla="*/ 222840 w 222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22887" h="17146">
                <a:moveTo>
                  <a:pt x="0" y="0"/>
                </a:moveTo>
                <a:lnTo>
                  <a:pt x="4552" y="4551"/>
                </a:lnTo>
                <a:lnTo>
                  <a:pt x="6845" y="5892"/>
                </a:lnTo>
                <a:lnTo>
                  <a:pt x="9326" y="6785"/>
                </a:lnTo>
                <a:lnTo>
                  <a:pt x="11932" y="7381"/>
                </a:lnTo>
                <a:lnTo>
                  <a:pt x="15574" y="7778"/>
                </a:lnTo>
                <a:lnTo>
                  <a:pt x="19908" y="8043"/>
                </a:lnTo>
                <a:lnTo>
                  <a:pt x="24703" y="8219"/>
                </a:lnTo>
                <a:lnTo>
                  <a:pt x="150434" y="8542"/>
                </a:lnTo>
                <a:lnTo>
                  <a:pt x="165060" y="9505"/>
                </a:lnTo>
                <a:lnTo>
                  <a:pt x="179572" y="11099"/>
                </a:lnTo>
                <a:lnTo>
                  <a:pt x="222886" y="1714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SMARTPenAnnotation53"/>
          <p:cNvSpPr/>
          <p:nvPr/>
        </p:nvSpPr>
        <p:spPr>
          <a:xfrm>
            <a:off x="7135920" y="5665680"/>
            <a:ext cx="272880" cy="34920"/>
          </a:xfrm>
          <a:custGeom>
            <a:avLst/>
            <a:gdLst>
              <a:gd name="textAreaLeft" fmla="*/ 0 w 272880"/>
              <a:gd name="textAreaRight" fmla="*/ 273240 w 2728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74321" h="34257">
                <a:moveTo>
                  <a:pt x="0" y="17111"/>
                </a:moveTo>
                <a:lnTo>
                  <a:pt x="9101" y="12561"/>
                </a:lnTo>
                <a:lnTo>
                  <a:pt x="14640" y="11219"/>
                </a:lnTo>
                <a:lnTo>
                  <a:pt x="21190" y="10326"/>
                </a:lnTo>
                <a:lnTo>
                  <a:pt x="28414" y="9730"/>
                </a:lnTo>
                <a:lnTo>
                  <a:pt x="35135" y="8380"/>
                </a:lnTo>
                <a:lnTo>
                  <a:pt x="41522" y="6528"/>
                </a:lnTo>
                <a:lnTo>
                  <a:pt x="47683" y="4341"/>
                </a:lnTo>
                <a:lnTo>
                  <a:pt x="54650" y="2883"/>
                </a:lnTo>
                <a:lnTo>
                  <a:pt x="62150" y="1910"/>
                </a:lnTo>
                <a:lnTo>
                  <a:pt x="70008" y="1263"/>
                </a:lnTo>
                <a:lnTo>
                  <a:pt x="78105" y="831"/>
                </a:lnTo>
                <a:lnTo>
                  <a:pt x="94720" y="350"/>
                </a:lnTo>
                <a:lnTo>
                  <a:pt x="154871" y="0"/>
                </a:lnTo>
                <a:lnTo>
                  <a:pt x="165160" y="941"/>
                </a:lnTo>
                <a:lnTo>
                  <a:pt x="173924" y="2521"/>
                </a:lnTo>
                <a:lnTo>
                  <a:pt x="181672" y="4527"/>
                </a:lnTo>
                <a:lnTo>
                  <a:pt x="202981" y="9296"/>
                </a:lnTo>
                <a:lnTo>
                  <a:pt x="215330" y="11901"/>
                </a:lnTo>
                <a:lnTo>
                  <a:pt x="227374" y="15542"/>
                </a:lnTo>
                <a:lnTo>
                  <a:pt x="239213" y="19875"/>
                </a:lnTo>
                <a:lnTo>
                  <a:pt x="274320" y="34256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SMARTPenAnnotation54"/>
          <p:cNvSpPr/>
          <p:nvPr/>
        </p:nvSpPr>
        <p:spPr>
          <a:xfrm>
            <a:off x="7537320" y="5494320"/>
            <a:ext cx="42840" cy="299880"/>
          </a:xfrm>
          <a:custGeom>
            <a:avLst/>
            <a:gdLst>
              <a:gd name="textAreaLeft" fmla="*/ 0 w 42840"/>
              <a:gd name="textAreaRight" fmla="*/ 42840 w 428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2863" h="300039">
                <a:moveTo>
                  <a:pt x="42862" y="0"/>
                </a:moveTo>
                <a:lnTo>
                  <a:pt x="24658" y="4551"/>
                </a:lnTo>
                <a:lnTo>
                  <a:pt x="19297" y="6844"/>
                </a:lnTo>
                <a:lnTo>
                  <a:pt x="15722" y="9325"/>
                </a:lnTo>
                <a:lnTo>
                  <a:pt x="13338" y="11932"/>
                </a:lnTo>
                <a:lnTo>
                  <a:pt x="11750" y="15574"/>
                </a:lnTo>
                <a:lnTo>
                  <a:pt x="10691" y="19908"/>
                </a:lnTo>
                <a:lnTo>
                  <a:pt x="4439" y="63305"/>
                </a:lnTo>
                <a:lnTo>
                  <a:pt x="2960" y="75541"/>
                </a:lnTo>
                <a:lnTo>
                  <a:pt x="1973" y="85603"/>
                </a:lnTo>
                <a:lnTo>
                  <a:pt x="1316" y="94217"/>
                </a:lnTo>
                <a:lnTo>
                  <a:pt x="877" y="102816"/>
                </a:lnTo>
                <a:lnTo>
                  <a:pt x="390" y="119991"/>
                </a:lnTo>
                <a:lnTo>
                  <a:pt x="51" y="156089"/>
                </a:lnTo>
                <a:lnTo>
                  <a:pt x="0" y="282307"/>
                </a:lnTo>
                <a:lnTo>
                  <a:pt x="952" y="286312"/>
                </a:lnTo>
                <a:lnTo>
                  <a:pt x="2540" y="289935"/>
                </a:lnTo>
                <a:lnTo>
                  <a:pt x="4550" y="293302"/>
                </a:lnTo>
                <a:lnTo>
                  <a:pt x="6844" y="295548"/>
                </a:lnTo>
                <a:lnTo>
                  <a:pt x="9325" y="297044"/>
                </a:lnTo>
                <a:lnTo>
                  <a:pt x="17145" y="30003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SMARTPenAnnotation55"/>
          <p:cNvSpPr/>
          <p:nvPr/>
        </p:nvSpPr>
        <p:spPr>
          <a:xfrm>
            <a:off x="7710480" y="5486400"/>
            <a:ext cx="179280" cy="349200"/>
          </a:xfrm>
          <a:custGeom>
            <a:avLst/>
            <a:gdLst>
              <a:gd name="textAreaLeft" fmla="*/ 0 w 179280"/>
              <a:gd name="textAreaRight" fmla="*/ 179640 w 1792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79847" h="349690">
                <a:moveTo>
                  <a:pt x="102694" y="25717"/>
                </a:moveTo>
                <a:lnTo>
                  <a:pt x="98142" y="16616"/>
                </a:lnTo>
                <a:lnTo>
                  <a:pt x="93369" y="9607"/>
                </a:lnTo>
                <a:lnTo>
                  <a:pt x="90762" y="6405"/>
                </a:lnTo>
                <a:lnTo>
                  <a:pt x="87120" y="5222"/>
                </a:lnTo>
                <a:lnTo>
                  <a:pt x="82786" y="5386"/>
                </a:lnTo>
                <a:lnTo>
                  <a:pt x="77991" y="6448"/>
                </a:lnTo>
                <a:lnTo>
                  <a:pt x="73844" y="7156"/>
                </a:lnTo>
                <a:lnTo>
                  <a:pt x="70125" y="7628"/>
                </a:lnTo>
                <a:lnTo>
                  <a:pt x="66694" y="7943"/>
                </a:lnTo>
                <a:lnTo>
                  <a:pt x="63454" y="8152"/>
                </a:lnTo>
                <a:lnTo>
                  <a:pt x="60341" y="8293"/>
                </a:lnTo>
                <a:lnTo>
                  <a:pt x="57314" y="8386"/>
                </a:lnTo>
                <a:lnTo>
                  <a:pt x="51485" y="10353"/>
                </a:lnTo>
                <a:lnTo>
                  <a:pt x="43790" y="13570"/>
                </a:lnTo>
                <a:lnTo>
                  <a:pt x="34850" y="17619"/>
                </a:lnTo>
                <a:lnTo>
                  <a:pt x="27937" y="21271"/>
                </a:lnTo>
                <a:lnTo>
                  <a:pt x="22376" y="24658"/>
                </a:lnTo>
                <a:lnTo>
                  <a:pt x="17716" y="27868"/>
                </a:lnTo>
                <a:lnTo>
                  <a:pt x="13657" y="30962"/>
                </a:lnTo>
                <a:lnTo>
                  <a:pt x="9998" y="33976"/>
                </a:lnTo>
                <a:lnTo>
                  <a:pt x="6607" y="36938"/>
                </a:lnTo>
                <a:lnTo>
                  <a:pt x="4346" y="40818"/>
                </a:lnTo>
                <a:lnTo>
                  <a:pt x="1833" y="50208"/>
                </a:lnTo>
                <a:lnTo>
                  <a:pt x="1164" y="56332"/>
                </a:lnTo>
                <a:lnTo>
                  <a:pt x="716" y="63272"/>
                </a:lnTo>
                <a:lnTo>
                  <a:pt x="221" y="77651"/>
                </a:lnTo>
                <a:lnTo>
                  <a:pt x="0" y="90391"/>
                </a:lnTo>
                <a:lnTo>
                  <a:pt x="894" y="96456"/>
                </a:lnTo>
                <a:lnTo>
                  <a:pt x="2443" y="102404"/>
                </a:lnTo>
                <a:lnTo>
                  <a:pt x="6702" y="113140"/>
                </a:lnTo>
                <a:lnTo>
                  <a:pt x="11771" y="121087"/>
                </a:lnTo>
                <a:lnTo>
                  <a:pt x="17199" y="127794"/>
                </a:lnTo>
                <a:lnTo>
                  <a:pt x="22786" y="133949"/>
                </a:lnTo>
                <a:lnTo>
                  <a:pt x="28444" y="139860"/>
                </a:lnTo>
                <a:lnTo>
                  <a:pt x="36985" y="148544"/>
                </a:lnTo>
                <a:lnTo>
                  <a:pt x="40791" y="151416"/>
                </a:lnTo>
                <a:lnTo>
                  <a:pt x="45232" y="154284"/>
                </a:lnTo>
                <a:lnTo>
                  <a:pt x="50099" y="157148"/>
                </a:lnTo>
                <a:lnTo>
                  <a:pt x="54295" y="160010"/>
                </a:lnTo>
                <a:lnTo>
                  <a:pt x="58045" y="162871"/>
                </a:lnTo>
                <a:lnTo>
                  <a:pt x="61498" y="165731"/>
                </a:lnTo>
                <a:lnTo>
                  <a:pt x="65705" y="168590"/>
                </a:lnTo>
                <a:lnTo>
                  <a:pt x="70414" y="171448"/>
                </a:lnTo>
                <a:lnTo>
                  <a:pt x="75459" y="174306"/>
                </a:lnTo>
                <a:lnTo>
                  <a:pt x="86144" y="180021"/>
                </a:lnTo>
                <a:lnTo>
                  <a:pt x="108527" y="191452"/>
                </a:lnTo>
                <a:lnTo>
                  <a:pt x="115154" y="196215"/>
                </a:lnTo>
                <a:lnTo>
                  <a:pt x="122431" y="202247"/>
                </a:lnTo>
                <a:lnTo>
                  <a:pt x="136231" y="214665"/>
                </a:lnTo>
                <a:lnTo>
                  <a:pt x="145539" y="223359"/>
                </a:lnTo>
                <a:lnTo>
                  <a:pt x="156135" y="233608"/>
                </a:lnTo>
                <a:lnTo>
                  <a:pt x="159276" y="237654"/>
                </a:lnTo>
                <a:lnTo>
                  <a:pt x="162324" y="242256"/>
                </a:lnTo>
                <a:lnTo>
                  <a:pt x="167295" y="251497"/>
                </a:lnTo>
                <a:lnTo>
                  <a:pt x="169506" y="258779"/>
                </a:lnTo>
                <a:lnTo>
                  <a:pt x="175300" y="281886"/>
                </a:lnTo>
                <a:lnTo>
                  <a:pt x="175863" y="290794"/>
                </a:lnTo>
                <a:lnTo>
                  <a:pt x="175286" y="299590"/>
                </a:lnTo>
                <a:lnTo>
                  <a:pt x="173949" y="308311"/>
                </a:lnTo>
                <a:lnTo>
                  <a:pt x="173057" y="315078"/>
                </a:lnTo>
                <a:lnTo>
                  <a:pt x="172066" y="325137"/>
                </a:lnTo>
                <a:lnTo>
                  <a:pt x="169897" y="329153"/>
                </a:lnTo>
                <a:lnTo>
                  <a:pt x="166546" y="332783"/>
                </a:lnTo>
                <a:lnTo>
                  <a:pt x="162407" y="336155"/>
                </a:lnTo>
                <a:lnTo>
                  <a:pt x="158695" y="339356"/>
                </a:lnTo>
                <a:lnTo>
                  <a:pt x="155268" y="342442"/>
                </a:lnTo>
                <a:lnTo>
                  <a:pt x="152031" y="345452"/>
                </a:lnTo>
                <a:lnTo>
                  <a:pt x="148920" y="347459"/>
                </a:lnTo>
                <a:lnTo>
                  <a:pt x="145894" y="348796"/>
                </a:lnTo>
                <a:lnTo>
                  <a:pt x="142924" y="349689"/>
                </a:lnTo>
                <a:lnTo>
                  <a:pt x="139991" y="349331"/>
                </a:lnTo>
                <a:lnTo>
                  <a:pt x="137083" y="348139"/>
                </a:lnTo>
                <a:lnTo>
                  <a:pt x="134193" y="346393"/>
                </a:lnTo>
                <a:lnTo>
                  <a:pt x="131313" y="345228"/>
                </a:lnTo>
                <a:lnTo>
                  <a:pt x="128441" y="344452"/>
                </a:lnTo>
                <a:lnTo>
                  <a:pt x="125574" y="343935"/>
                </a:lnTo>
                <a:lnTo>
                  <a:pt x="122710" y="342637"/>
                </a:lnTo>
                <a:lnTo>
                  <a:pt x="119848" y="340820"/>
                </a:lnTo>
                <a:lnTo>
                  <a:pt x="116988" y="338656"/>
                </a:lnTo>
                <a:lnTo>
                  <a:pt x="114127" y="336260"/>
                </a:lnTo>
                <a:lnTo>
                  <a:pt x="111269" y="333711"/>
                </a:lnTo>
                <a:lnTo>
                  <a:pt x="105553" y="328338"/>
                </a:lnTo>
                <a:lnTo>
                  <a:pt x="99837" y="322776"/>
                </a:lnTo>
                <a:lnTo>
                  <a:pt x="96979" y="319006"/>
                </a:lnTo>
                <a:lnTo>
                  <a:pt x="94121" y="314588"/>
                </a:lnTo>
                <a:lnTo>
                  <a:pt x="91264" y="309738"/>
                </a:lnTo>
                <a:lnTo>
                  <a:pt x="88406" y="305552"/>
                </a:lnTo>
                <a:lnTo>
                  <a:pt x="85548" y="301809"/>
                </a:lnTo>
                <a:lnTo>
                  <a:pt x="82691" y="298361"/>
                </a:lnTo>
                <a:lnTo>
                  <a:pt x="80786" y="293204"/>
                </a:lnTo>
                <a:lnTo>
                  <a:pt x="79516" y="286910"/>
                </a:lnTo>
                <a:lnTo>
                  <a:pt x="78670" y="279855"/>
                </a:lnTo>
                <a:lnTo>
                  <a:pt x="77153" y="273248"/>
                </a:lnTo>
                <a:lnTo>
                  <a:pt x="75189" y="266937"/>
                </a:lnTo>
                <a:lnTo>
                  <a:pt x="72927" y="260826"/>
                </a:lnTo>
                <a:lnTo>
                  <a:pt x="71420" y="253893"/>
                </a:lnTo>
                <a:lnTo>
                  <a:pt x="70414" y="246415"/>
                </a:lnTo>
                <a:lnTo>
                  <a:pt x="69744" y="238571"/>
                </a:lnTo>
                <a:lnTo>
                  <a:pt x="69297" y="228580"/>
                </a:lnTo>
                <a:lnTo>
                  <a:pt x="68801" y="204778"/>
                </a:lnTo>
                <a:lnTo>
                  <a:pt x="69621" y="193669"/>
                </a:lnTo>
                <a:lnTo>
                  <a:pt x="71120" y="183405"/>
                </a:lnTo>
                <a:lnTo>
                  <a:pt x="73072" y="173705"/>
                </a:lnTo>
                <a:lnTo>
                  <a:pt x="74374" y="165333"/>
                </a:lnTo>
                <a:lnTo>
                  <a:pt x="75241" y="157847"/>
                </a:lnTo>
                <a:lnTo>
                  <a:pt x="75819" y="150951"/>
                </a:lnTo>
                <a:lnTo>
                  <a:pt x="77157" y="143497"/>
                </a:lnTo>
                <a:lnTo>
                  <a:pt x="79002" y="135670"/>
                </a:lnTo>
                <a:lnTo>
                  <a:pt x="81184" y="127594"/>
                </a:lnTo>
                <a:lnTo>
                  <a:pt x="85496" y="117447"/>
                </a:lnTo>
                <a:lnTo>
                  <a:pt x="91229" y="105921"/>
                </a:lnTo>
                <a:lnTo>
                  <a:pt x="97908" y="93474"/>
                </a:lnTo>
                <a:lnTo>
                  <a:pt x="104266" y="83271"/>
                </a:lnTo>
                <a:lnTo>
                  <a:pt x="110410" y="74564"/>
                </a:lnTo>
                <a:lnTo>
                  <a:pt x="116410" y="66854"/>
                </a:lnTo>
                <a:lnTo>
                  <a:pt x="123268" y="58856"/>
                </a:lnTo>
                <a:lnTo>
                  <a:pt x="130698" y="50668"/>
                </a:lnTo>
                <a:lnTo>
                  <a:pt x="138508" y="42351"/>
                </a:lnTo>
                <a:lnTo>
                  <a:pt x="144667" y="34901"/>
                </a:lnTo>
                <a:lnTo>
                  <a:pt x="149726" y="28030"/>
                </a:lnTo>
                <a:lnTo>
                  <a:pt x="179846" y="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SMARTPenAnnotation56"/>
          <p:cNvSpPr/>
          <p:nvPr/>
        </p:nvSpPr>
        <p:spPr>
          <a:xfrm>
            <a:off x="7932600" y="5486400"/>
            <a:ext cx="169920" cy="263520"/>
          </a:xfrm>
          <a:custGeom>
            <a:avLst/>
            <a:gdLst>
              <a:gd name="textAreaLeft" fmla="*/ 0 w 169920"/>
              <a:gd name="textAreaRight" fmla="*/ 170280 w 169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0087" h="264043">
                <a:moveTo>
                  <a:pt x="77153" y="0"/>
                </a:moveTo>
                <a:lnTo>
                  <a:pt x="72602" y="4551"/>
                </a:lnTo>
                <a:lnTo>
                  <a:pt x="71262" y="6843"/>
                </a:lnTo>
                <a:lnTo>
                  <a:pt x="69773" y="11931"/>
                </a:lnTo>
                <a:lnTo>
                  <a:pt x="69110" y="19908"/>
                </a:lnTo>
                <a:lnTo>
                  <a:pt x="68816" y="29802"/>
                </a:lnTo>
                <a:lnTo>
                  <a:pt x="68685" y="40551"/>
                </a:lnTo>
                <a:lnTo>
                  <a:pt x="67698" y="47036"/>
                </a:lnTo>
                <a:lnTo>
                  <a:pt x="66087" y="54217"/>
                </a:lnTo>
                <a:lnTo>
                  <a:pt x="64061" y="61862"/>
                </a:lnTo>
                <a:lnTo>
                  <a:pt x="61758" y="68864"/>
                </a:lnTo>
                <a:lnTo>
                  <a:pt x="59269" y="75436"/>
                </a:lnTo>
                <a:lnTo>
                  <a:pt x="56658" y="81724"/>
                </a:lnTo>
                <a:lnTo>
                  <a:pt x="54917" y="88772"/>
                </a:lnTo>
                <a:lnTo>
                  <a:pt x="53757" y="96329"/>
                </a:lnTo>
                <a:lnTo>
                  <a:pt x="52983" y="104224"/>
                </a:lnTo>
                <a:lnTo>
                  <a:pt x="52468" y="114250"/>
                </a:lnTo>
                <a:lnTo>
                  <a:pt x="51894" y="138090"/>
                </a:lnTo>
                <a:lnTo>
                  <a:pt x="51571" y="169185"/>
                </a:lnTo>
                <a:lnTo>
                  <a:pt x="53431" y="180418"/>
                </a:lnTo>
                <a:lnTo>
                  <a:pt x="56576" y="192668"/>
                </a:lnTo>
                <a:lnTo>
                  <a:pt x="70760" y="237448"/>
                </a:lnTo>
                <a:lnTo>
                  <a:pt x="73845" y="244023"/>
                </a:lnTo>
                <a:lnTo>
                  <a:pt x="76851" y="248407"/>
                </a:lnTo>
                <a:lnTo>
                  <a:pt x="79810" y="251330"/>
                </a:lnTo>
                <a:lnTo>
                  <a:pt x="83687" y="254230"/>
                </a:lnTo>
                <a:lnTo>
                  <a:pt x="88176" y="257117"/>
                </a:lnTo>
                <a:lnTo>
                  <a:pt x="93074" y="259994"/>
                </a:lnTo>
                <a:lnTo>
                  <a:pt x="97292" y="261911"/>
                </a:lnTo>
                <a:lnTo>
                  <a:pt x="101057" y="263190"/>
                </a:lnTo>
                <a:lnTo>
                  <a:pt x="104519" y="264042"/>
                </a:lnTo>
                <a:lnTo>
                  <a:pt x="107780" y="263658"/>
                </a:lnTo>
                <a:lnTo>
                  <a:pt x="110906" y="262450"/>
                </a:lnTo>
                <a:lnTo>
                  <a:pt x="113942" y="260691"/>
                </a:lnTo>
                <a:lnTo>
                  <a:pt x="117871" y="259519"/>
                </a:lnTo>
                <a:lnTo>
                  <a:pt x="122396" y="258738"/>
                </a:lnTo>
                <a:lnTo>
                  <a:pt x="127318" y="258217"/>
                </a:lnTo>
                <a:lnTo>
                  <a:pt x="130598" y="256917"/>
                </a:lnTo>
                <a:lnTo>
                  <a:pt x="132787" y="255098"/>
                </a:lnTo>
                <a:lnTo>
                  <a:pt x="145398" y="236233"/>
                </a:lnTo>
                <a:lnTo>
                  <a:pt x="149321" y="229878"/>
                </a:lnTo>
                <a:lnTo>
                  <a:pt x="152886" y="223737"/>
                </a:lnTo>
                <a:lnTo>
                  <a:pt x="156217" y="217738"/>
                </a:lnTo>
                <a:lnTo>
                  <a:pt x="158438" y="211833"/>
                </a:lnTo>
                <a:lnTo>
                  <a:pt x="159918" y="205992"/>
                </a:lnTo>
                <a:lnTo>
                  <a:pt x="160904" y="200193"/>
                </a:lnTo>
                <a:lnTo>
                  <a:pt x="162515" y="193469"/>
                </a:lnTo>
                <a:lnTo>
                  <a:pt x="164541" y="186130"/>
                </a:lnTo>
                <a:lnTo>
                  <a:pt x="166844" y="178379"/>
                </a:lnTo>
                <a:lnTo>
                  <a:pt x="168381" y="171307"/>
                </a:lnTo>
                <a:lnTo>
                  <a:pt x="169404" y="164687"/>
                </a:lnTo>
                <a:lnTo>
                  <a:pt x="170086" y="158369"/>
                </a:lnTo>
                <a:lnTo>
                  <a:pt x="169588" y="146536"/>
                </a:lnTo>
                <a:lnTo>
                  <a:pt x="168304" y="131028"/>
                </a:lnTo>
                <a:lnTo>
                  <a:pt x="166495" y="113070"/>
                </a:lnTo>
                <a:lnTo>
                  <a:pt x="162432" y="97287"/>
                </a:lnTo>
                <a:lnTo>
                  <a:pt x="156866" y="82956"/>
                </a:lnTo>
                <a:lnTo>
                  <a:pt x="150298" y="69591"/>
                </a:lnTo>
                <a:lnTo>
                  <a:pt x="144966" y="59729"/>
                </a:lnTo>
                <a:lnTo>
                  <a:pt x="140459" y="52202"/>
                </a:lnTo>
                <a:lnTo>
                  <a:pt x="136502" y="46231"/>
                </a:lnTo>
                <a:lnTo>
                  <a:pt x="131959" y="41298"/>
                </a:lnTo>
                <a:lnTo>
                  <a:pt x="127026" y="37057"/>
                </a:lnTo>
                <a:lnTo>
                  <a:pt x="121831" y="33277"/>
                </a:lnTo>
                <a:lnTo>
                  <a:pt x="116464" y="30757"/>
                </a:lnTo>
                <a:lnTo>
                  <a:pt x="110980" y="29077"/>
                </a:lnTo>
                <a:lnTo>
                  <a:pt x="105419" y="27957"/>
                </a:lnTo>
                <a:lnTo>
                  <a:pt x="99807" y="27210"/>
                </a:lnTo>
                <a:lnTo>
                  <a:pt x="94161" y="26713"/>
                </a:lnTo>
                <a:lnTo>
                  <a:pt x="88492" y="26381"/>
                </a:lnTo>
                <a:lnTo>
                  <a:pt x="74572" y="26012"/>
                </a:lnTo>
                <a:lnTo>
                  <a:pt x="66860" y="25914"/>
                </a:lnTo>
                <a:lnTo>
                  <a:pt x="58861" y="26801"/>
                </a:lnTo>
                <a:lnTo>
                  <a:pt x="50672" y="28345"/>
                </a:lnTo>
                <a:lnTo>
                  <a:pt x="42353" y="30326"/>
                </a:lnTo>
                <a:lnTo>
                  <a:pt x="35856" y="32599"/>
                </a:lnTo>
                <a:lnTo>
                  <a:pt x="30571" y="35068"/>
                </a:lnTo>
                <a:lnTo>
                  <a:pt x="0" y="5143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line contains at least two points; a plane contains at least 3 points not all in one line; space contains at least four points not all in one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SMARTPenAnnotation42"/>
          <p:cNvSpPr/>
          <p:nvPr/>
        </p:nvSpPr>
        <p:spPr>
          <a:xfrm>
            <a:off x="8869320" y="6458040"/>
            <a:ext cx="360" cy="11160"/>
          </a:xfrm>
          <a:custGeom>
            <a:avLst/>
            <a:gdLst>
              <a:gd name="textAreaLeft" fmla="*/ 0 w 360"/>
              <a:gd name="textAreaRight" fmla="*/ 720 w 360"/>
              <a:gd name="textAreaTop" fmla="*/ 0 h 11160"/>
              <a:gd name="textAreaBottom" fmla="*/ 11160 h 11160"/>
            </a:gdLst>
            <a:ahLst/>
            <a:rect l="textAreaLeft" t="textAreaTop" r="textAreaRight" b="textAreaBottom"/>
            <a:pathLst>
              <a:path w="1" h="11430">
                <a:moveTo>
                  <a:pt x="0" y="11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ough any two points there is exactly one l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true for plane geomet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SMARTPenAnnotation32"/>
          <p:cNvSpPr/>
          <p:nvPr/>
        </p:nvSpPr>
        <p:spPr>
          <a:xfrm>
            <a:off x="6311880" y="4071960"/>
            <a:ext cx="196920" cy="179280"/>
          </a:xfrm>
          <a:custGeom>
            <a:avLst/>
            <a:gdLst>
              <a:gd name="textAreaLeft" fmla="*/ 0 w 196920"/>
              <a:gd name="textAreaRight" fmla="*/ 197280 w 196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96671" h="179858">
                <a:moveTo>
                  <a:pt x="111291" y="34140"/>
                </a:moveTo>
                <a:lnTo>
                  <a:pt x="99360" y="22208"/>
                </a:lnTo>
                <a:lnTo>
                  <a:pt x="95717" y="20470"/>
                </a:lnTo>
                <a:lnTo>
                  <a:pt x="91384" y="19312"/>
                </a:lnTo>
                <a:lnTo>
                  <a:pt x="86590" y="18540"/>
                </a:lnTo>
                <a:lnTo>
                  <a:pt x="82441" y="18025"/>
                </a:lnTo>
                <a:lnTo>
                  <a:pt x="78723" y="17681"/>
                </a:lnTo>
                <a:lnTo>
                  <a:pt x="75292" y="17453"/>
                </a:lnTo>
                <a:lnTo>
                  <a:pt x="72052" y="18253"/>
                </a:lnTo>
                <a:lnTo>
                  <a:pt x="65912" y="21682"/>
                </a:lnTo>
                <a:lnTo>
                  <a:pt x="47998" y="33518"/>
                </a:lnTo>
                <a:lnTo>
                  <a:pt x="42426" y="37535"/>
                </a:lnTo>
                <a:lnTo>
                  <a:pt x="37759" y="41166"/>
                </a:lnTo>
                <a:lnTo>
                  <a:pt x="33695" y="44539"/>
                </a:lnTo>
                <a:lnTo>
                  <a:pt x="30033" y="48693"/>
                </a:lnTo>
                <a:lnTo>
                  <a:pt x="26639" y="53367"/>
                </a:lnTo>
                <a:lnTo>
                  <a:pt x="23424" y="58388"/>
                </a:lnTo>
                <a:lnTo>
                  <a:pt x="20328" y="62688"/>
                </a:lnTo>
                <a:lnTo>
                  <a:pt x="17312" y="66507"/>
                </a:lnTo>
                <a:lnTo>
                  <a:pt x="14348" y="70005"/>
                </a:lnTo>
                <a:lnTo>
                  <a:pt x="11420" y="74243"/>
                </a:lnTo>
                <a:lnTo>
                  <a:pt x="8516" y="78973"/>
                </a:lnTo>
                <a:lnTo>
                  <a:pt x="5626" y="84031"/>
                </a:lnTo>
                <a:lnTo>
                  <a:pt x="3701" y="88356"/>
                </a:lnTo>
                <a:lnTo>
                  <a:pt x="2417" y="92192"/>
                </a:lnTo>
                <a:lnTo>
                  <a:pt x="1561" y="95701"/>
                </a:lnTo>
                <a:lnTo>
                  <a:pt x="990" y="99946"/>
                </a:lnTo>
                <a:lnTo>
                  <a:pt x="610" y="104680"/>
                </a:lnTo>
                <a:lnTo>
                  <a:pt x="357" y="109742"/>
                </a:lnTo>
                <a:lnTo>
                  <a:pt x="74" y="120446"/>
                </a:lnTo>
                <a:lnTo>
                  <a:pt x="0" y="125967"/>
                </a:lnTo>
                <a:lnTo>
                  <a:pt x="902" y="130601"/>
                </a:lnTo>
                <a:lnTo>
                  <a:pt x="2456" y="134642"/>
                </a:lnTo>
                <a:lnTo>
                  <a:pt x="4444" y="138289"/>
                </a:lnTo>
                <a:lnTo>
                  <a:pt x="11794" y="152523"/>
                </a:lnTo>
                <a:lnTo>
                  <a:pt x="14480" y="156877"/>
                </a:lnTo>
                <a:lnTo>
                  <a:pt x="17223" y="160732"/>
                </a:lnTo>
                <a:lnTo>
                  <a:pt x="20004" y="164255"/>
                </a:lnTo>
                <a:lnTo>
                  <a:pt x="22811" y="166603"/>
                </a:lnTo>
                <a:lnTo>
                  <a:pt x="25635" y="168169"/>
                </a:lnTo>
                <a:lnTo>
                  <a:pt x="28469" y="169213"/>
                </a:lnTo>
                <a:lnTo>
                  <a:pt x="32264" y="170861"/>
                </a:lnTo>
                <a:lnTo>
                  <a:pt x="41561" y="175233"/>
                </a:lnTo>
                <a:lnTo>
                  <a:pt x="45755" y="176779"/>
                </a:lnTo>
                <a:lnTo>
                  <a:pt x="49503" y="177810"/>
                </a:lnTo>
                <a:lnTo>
                  <a:pt x="52954" y="178498"/>
                </a:lnTo>
                <a:lnTo>
                  <a:pt x="57160" y="178956"/>
                </a:lnTo>
                <a:lnTo>
                  <a:pt x="61869" y="179262"/>
                </a:lnTo>
                <a:lnTo>
                  <a:pt x="66913" y="179465"/>
                </a:lnTo>
                <a:lnTo>
                  <a:pt x="72181" y="178648"/>
                </a:lnTo>
                <a:lnTo>
                  <a:pt x="77598" y="177152"/>
                </a:lnTo>
                <a:lnTo>
                  <a:pt x="83114" y="175201"/>
                </a:lnTo>
                <a:lnTo>
                  <a:pt x="87744" y="172948"/>
                </a:lnTo>
                <a:lnTo>
                  <a:pt x="91783" y="170494"/>
                </a:lnTo>
                <a:lnTo>
                  <a:pt x="95428" y="167905"/>
                </a:lnTo>
                <a:lnTo>
                  <a:pt x="101669" y="164274"/>
                </a:lnTo>
                <a:lnTo>
                  <a:pt x="118763" y="155160"/>
                </a:lnTo>
                <a:lnTo>
                  <a:pt x="125797" y="150063"/>
                </a:lnTo>
                <a:lnTo>
                  <a:pt x="131439" y="144759"/>
                </a:lnTo>
                <a:lnTo>
                  <a:pt x="136153" y="139319"/>
                </a:lnTo>
                <a:lnTo>
                  <a:pt x="141201" y="132834"/>
                </a:lnTo>
                <a:lnTo>
                  <a:pt x="146471" y="125654"/>
                </a:lnTo>
                <a:lnTo>
                  <a:pt x="151890" y="118009"/>
                </a:lnTo>
                <a:lnTo>
                  <a:pt x="155502" y="111960"/>
                </a:lnTo>
                <a:lnTo>
                  <a:pt x="157910" y="106975"/>
                </a:lnTo>
                <a:lnTo>
                  <a:pt x="159516" y="102700"/>
                </a:lnTo>
                <a:lnTo>
                  <a:pt x="160586" y="98896"/>
                </a:lnTo>
                <a:lnTo>
                  <a:pt x="161300" y="95408"/>
                </a:lnTo>
                <a:lnTo>
                  <a:pt x="161775" y="92130"/>
                </a:lnTo>
                <a:lnTo>
                  <a:pt x="162093" y="88040"/>
                </a:lnTo>
                <a:lnTo>
                  <a:pt x="162304" y="83409"/>
                </a:lnTo>
                <a:lnTo>
                  <a:pt x="162444" y="78416"/>
                </a:lnTo>
                <a:lnTo>
                  <a:pt x="161586" y="73182"/>
                </a:lnTo>
                <a:lnTo>
                  <a:pt x="160061" y="67788"/>
                </a:lnTo>
                <a:lnTo>
                  <a:pt x="158092" y="62287"/>
                </a:lnTo>
                <a:lnTo>
                  <a:pt x="155827" y="57667"/>
                </a:lnTo>
                <a:lnTo>
                  <a:pt x="153364" y="53635"/>
                </a:lnTo>
                <a:lnTo>
                  <a:pt x="150770" y="49994"/>
                </a:lnTo>
                <a:lnTo>
                  <a:pt x="148088" y="46615"/>
                </a:lnTo>
                <a:lnTo>
                  <a:pt x="145348" y="43409"/>
                </a:lnTo>
                <a:lnTo>
                  <a:pt x="142568" y="40319"/>
                </a:lnTo>
                <a:lnTo>
                  <a:pt x="138810" y="38259"/>
                </a:lnTo>
                <a:lnTo>
                  <a:pt x="134400" y="36886"/>
                </a:lnTo>
                <a:lnTo>
                  <a:pt x="129555" y="35971"/>
                </a:lnTo>
                <a:lnTo>
                  <a:pt x="124419" y="35361"/>
                </a:lnTo>
                <a:lnTo>
                  <a:pt x="119091" y="34954"/>
                </a:lnTo>
                <a:lnTo>
                  <a:pt x="113634" y="34683"/>
                </a:lnTo>
                <a:lnTo>
                  <a:pt x="102490" y="34381"/>
                </a:lnTo>
                <a:lnTo>
                  <a:pt x="79814" y="34188"/>
                </a:lnTo>
                <a:lnTo>
                  <a:pt x="75067" y="35125"/>
                </a:lnTo>
                <a:lnTo>
                  <a:pt x="70949" y="36701"/>
                </a:lnTo>
                <a:lnTo>
                  <a:pt x="67251" y="38705"/>
                </a:lnTo>
                <a:lnTo>
                  <a:pt x="62881" y="41946"/>
                </a:lnTo>
                <a:lnTo>
                  <a:pt x="58064" y="46012"/>
                </a:lnTo>
                <a:lnTo>
                  <a:pt x="48582" y="54656"/>
                </a:lnTo>
                <a:lnTo>
                  <a:pt x="41193" y="61673"/>
                </a:lnTo>
                <a:lnTo>
                  <a:pt x="22826" y="79769"/>
                </a:lnTo>
                <a:lnTo>
                  <a:pt x="20883" y="84561"/>
                </a:lnTo>
                <a:lnTo>
                  <a:pt x="19586" y="90615"/>
                </a:lnTo>
                <a:lnTo>
                  <a:pt x="18722" y="97507"/>
                </a:lnTo>
                <a:lnTo>
                  <a:pt x="18146" y="104960"/>
                </a:lnTo>
                <a:lnTo>
                  <a:pt x="17762" y="112786"/>
                </a:lnTo>
                <a:lnTo>
                  <a:pt x="17506" y="120860"/>
                </a:lnTo>
                <a:lnTo>
                  <a:pt x="18288" y="127196"/>
                </a:lnTo>
                <a:lnTo>
                  <a:pt x="19762" y="132373"/>
                </a:lnTo>
                <a:lnTo>
                  <a:pt x="21697" y="136776"/>
                </a:lnTo>
                <a:lnTo>
                  <a:pt x="23939" y="140664"/>
                </a:lnTo>
                <a:lnTo>
                  <a:pt x="26387" y="144209"/>
                </a:lnTo>
                <a:lnTo>
                  <a:pt x="28971" y="147524"/>
                </a:lnTo>
                <a:lnTo>
                  <a:pt x="33551" y="151640"/>
                </a:lnTo>
                <a:lnTo>
                  <a:pt x="39462" y="156288"/>
                </a:lnTo>
                <a:lnTo>
                  <a:pt x="46260" y="161292"/>
                </a:lnTo>
                <a:lnTo>
                  <a:pt x="51745" y="165581"/>
                </a:lnTo>
                <a:lnTo>
                  <a:pt x="56354" y="169392"/>
                </a:lnTo>
                <a:lnTo>
                  <a:pt x="60379" y="172886"/>
                </a:lnTo>
                <a:lnTo>
                  <a:pt x="64015" y="175214"/>
                </a:lnTo>
                <a:lnTo>
                  <a:pt x="67391" y="176767"/>
                </a:lnTo>
                <a:lnTo>
                  <a:pt x="70595" y="177802"/>
                </a:lnTo>
                <a:lnTo>
                  <a:pt x="74635" y="178492"/>
                </a:lnTo>
                <a:lnTo>
                  <a:pt x="79234" y="178953"/>
                </a:lnTo>
                <a:lnTo>
                  <a:pt x="88471" y="179464"/>
                </a:lnTo>
                <a:lnTo>
                  <a:pt x="95752" y="179691"/>
                </a:lnTo>
                <a:lnTo>
                  <a:pt x="121420" y="179857"/>
                </a:lnTo>
                <a:lnTo>
                  <a:pt x="124711" y="178910"/>
                </a:lnTo>
                <a:lnTo>
                  <a:pt x="127858" y="177326"/>
                </a:lnTo>
                <a:lnTo>
                  <a:pt x="133894" y="173025"/>
                </a:lnTo>
                <a:lnTo>
                  <a:pt x="139752" y="167940"/>
                </a:lnTo>
                <a:lnTo>
                  <a:pt x="162058" y="146068"/>
                </a:lnTo>
                <a:lnTo>
                  <a:pt x="169901" y="137334"/>
                </a:lnTo>
                <a:lnTo>
                  <a:pt x="177035" y="128654"/>
                </a:lnTo>
                <a:lnTo>
                  <a:pt x="183695" y="120009"/>
                </a:lnTo>
                <a:lnTo>
                  <a:pt x="188136" y="112341"/>
                </a:lnTo>
                <a:lnTo>
                  <a:pt x="191097" y="105324"/>
                </a:lnTo>
                <a:lnTo>
                  <a:pt x="193069" y="98741"/>
                </a:lnTo>
                <a:lnTo>
                  <a:pt x="194385" y="92447"/>
                </a:lnTo>
                <a:lnTo>
                  <a:pt x="195262" y="86347"/>
                </a:lnTo>
                <a:lnTo>
                  <a:pt x="195847" y="80375"/>
                </a:lnTo>
                <a:lnTo>
                  <a:pt x="196237" y="74488"/>
                </a:lnTo>
                <a:lnTo>
                  <a:pt x="196497" y="68659"/>
                </a:lnTo>
                <a:lnTo>
                  <a:pt x="196670" y="62868"/>
                </a:lnTo>
                <a:lnTo>
                  <a:pt x="195833" y="57102"/>
                </a:lnTo>
                <a:lnTo>
                  <a:pt x="194323" y="51353"/>
                </a:lnTo>
                <a:lnTo>
                  <a:pt x="192363" y="45615"/>
                </a:lnTo>
                <a:lnTo>
                  <a:pt x="190104" y="40838"/>
                </a:lnTo>
                <a:lnTo>
                  <a:pt x="187646" y="36700"/>
                </a:lnTo>
                <a:lnTo>
                  <a:pt x="185055" y="32989"/>
                </a:lnTo>
                <a:lnTo>
                  <a:pt x="182375" y="29563"/>
                </a:lnTo>
                <a:lnTo>
                  <a:pt x="179635" y="26326"/>
                </a:lnTo>
                <a:lnTo>
                  <a:pt x="176857" y="23216"/>
                </a:lnTo>
                <a:lnTo>
                  <a:pt x="171229" y="17220"/>
                </a:lnTo>
                <a:lnTo>
                  <a:pt x="159855" y="5609"/>
                </a:lnTo>
                <a:lnTo>
                  <a:pt x="157003" y="3690"/>
                </a:lnTo>
                <a:lnTo>
                  <a:pt x="151292" y="1556"/>
                </a:lnTo>
                <a:lnTo>
                  <a:pt x="147484" y="988"/>
                </a:lnTo>
                <a:lnTo>
                  <a:pt x="143040" y="608"/>
                </a:lnTo>
                <a:lnTo>
                  <a:pt x="138172" y="356"/>
                </a:lnTo>
                <a:lnTo>
                  <a:pt x="127684" y="75"/>
                </a:lnTo>
                <a:lnTo>
                  <a:pt x="122220" y="0"/>
                </a:lnTo>
                <a:lnTo>
                  <a:pt x="115719" y="903"/>
                </a:lnTo>
                <a:lnTo>
                  <a:pt x="108528" y="2457"/>
                </a:lnTo>
                <a:lnTo>
                  <a:pt x="100877" y="4445"/>
                </a:lnTo>
                <a:lnTo>
                  <a:pt x="93871" y="6724"/>
                </a:lnTo>
                <a:lnTo>
                  <a:pt x="87296" y="9195"/>
                </a:lnTo>
                <a:lnTo>
                  <a:pt x="81007" y="11795"/>
                </a:lnTo>
                <a:lnTo>
                  <a:pt x="75861" y="13529"/>
                </a:lnTo>
                <a:lnTo>
                  <a:pt x="71479" y="14684"/>
                </a:lnTo>
                <a:lnTo>
                  <a:pt x="59857" y="16995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SMARTPenAnnotation33"/>
          <p:cNvSpPr/>
          <p:nvPr/>
        </p:nvSpPr>
        <p:spPr>
          <a:xfrm>
            <a:off x="7350120" y="2711520"/>
            <a:ext cx="264960" cy="226800"/>
          </a:xfrm>
          <a:custGeom>
            <a:avLst/>
            <a:gdLst>
              <a:gd name="textAreaLeft" fmla="*/ 0 w 264960"/>
              <a:gd name="textAreaRight" fmla="*/ 265320 w 2649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63894" h="228238">
                <a:moveTo>
                  <a:pt x="75844" y="32468"/>
                </a:moveTo>
                <a:lnTo>
                  <a:pt x="62192" y="41569"/>
                </a:lnTo>
                <a:lnTo>
                  <a:pt x="57218" y="45203"/>
                </a:lnTo>
                <a:lnTo>
                  <a:pt x="49151" y="51780"/>
                </a:lnTo>
                <a:lnTo>
                  <a:pt x="42390" y="57878"/>
                </a:lnTo>
                <a:lnTo>
                  <a:pt x="36211" y="63764"/>
                </a:lnTo>
                <a:lnTo>
                  <a:pt x="30289" y="69555"/>
                </a:lnTo>
                <a:lnTo>
                  <a:pt x="27377" y="73385"/>
                </a:lnTo>
                <a:lnTo>
                  <a:pt x="24482" y="77843"/>
                </a:lnTo>
                <a:lnTo>
                  <a:pt x="21600" y="82721"/>
                </a:lnTo>
                <a:lnTo>
                  <a:pt x="19679" y="87877"/>
                </a:lnTo>
                <a:lnTo>
                  <a:pt x="18398" y="93220"/>
                </a:lnTo>
                <a:lnTo>
                  <a:pt x="17544" y="98687"/>
                </a:lnTo>
                <a:lnTo>
                  <a:pt x="16975" y="104236"/>
                </a:lnTo>
                <a:lnTo>
                  <a:pt x="16596" y="109841"/>
                </a:lnTo>
                <a:lnTo>
                  <a:pt x="16343" y="115482"/>
                </a:lnTo>
                <a:lnTo>
                  <a:pt x="15987" y="146176"/>
                </a:lnTo>
                <a:lnTo>
                  <a:pt x="17842" y="156851"/>
                </a:lnTo>
                <a:lnTo>
                  <a:pt x="20983" y="166825"/>
                </a:lnTo>
                <a:lnTo>
                  <a:pt x="24982" y="176332"/>
                </a:lnTo>
                <a:lnTo>
                  <a:pt x="29554" y="183622"/>
                </a:lnTo>
                <a:lnTo>
                  <a:pt x="34507" y="189435"/>
                </a:lnTo>
                <a:lnTo>
                  <a:pt x="44137" y="198433"/>
                </a:lnTo>
                <a:lnTo>
                  <a:pt x="51592" y="205608"/>
                </a:lnTo>
                <a:lnTo>
                  <a:pt x="55866" y="207902"/>
                </a:lnTo>
                <a:lnTo>
                  <a:pt x="60620" y="209431"/>
                </a:lnTo>
                <a:lnTo>
                  <a:pt x="65695" y="210451"/>
                </a:lnTo>
                <a:lnTo>
                  <a:pt x="70983" y="211130"/>
                </a:lnTo>
                <a:lnTo>
                  <a:pt x="76414" y="211584"/>
                </a:lnTo>
                <a:lnTo>
                  <a:pt x="81939" y="211886"/>
                </a:lnTo>
                <a:lnTo>
                  <a:pt x="93158" y="212222"/>
                </a:lnTo>
                <a:lnTo>
                  <a:pt x="111332" y="212437"/>
                </a:lnTo>
                <a:lnTo>
                  <a:pt x="115695" y="211502"/>
                </a:lnTo>
                <a:lnTo>
                  <a:pt x="120509" y="209926"/>
                </a:lnTo>
                <a:lnTo>
                  <a:pt x="125623" y="207924"/>
                </a:lnTo>
                <a:lnTo>
                  <a:pt x="130938" y="205636"/>
                </a:lnTo>
                <a:lnTo>
                  <a:pt x="141922" y="200554"/>
                </a:lnTo>
                <a:lnTo>
                  <a:pt x="158817" y="192338"/>
                </a:lnTo>
                <a:lnTo>
                  <a:pt x="164497" y="188577"/>
                </a:lnTo>
                <a:lnTo>
                  <a:pt x="170189" y="184166"/>
                </a:lnTo>
                <a:lnTo>
                  <a:pt x="175888" y="179320"/>
                </a:lnTo>
                <a:lnTo>
                  <a:pt x="180640" y="174184"/>
                </a:lnTo>
                <a:lnTo>
                  <a:pt x="184760" y="168855"/>
                </a:lnTo>
                <a:lnTo>
                  <a:pt x="188460" y="163398"/>
                </a:lnTo>
                <a:lnTo>
                  <a:pt x="193784" y="156902"/>
                </a:lnTo>
                <a:lnTo>
                  <a:pt x="200191" y="149714"/>
                </a:lnTo>
                <a:lnTo>
                  <a:pt x="207320" y="142064"/>
                </a:lnTo>
                <a:lnTo>
                  <a:pt x="212072" y="135059"/>
                </a:lnTo>
                <a:lnTo>
                  <a:pt x="215240" y="128485"/>
                </a:lnTo>
                <a:lnTo>
                  <a:pt x="229426" y="86042"/>
                </a:lnTo>
                <a:lnTo>
                  <a:pt x="231573" y="74851"/>
                </a:lnTo>
                <a:lnTo>
                  <a:pt x="232050" y="65486"/>
                </a:lnTo>
                <a:lnTo>
                  <a:pt x="231417" y="57337"/>
                </a:lnTo>
                <a:lnTo>
                  <a:pt x="230042" y="50952"/>
                </a:lnTo>
                <a:lnTo>
                  <a:pt x="228172" y="45743"/>
                </a:lnTo>
                <a:lnTo>
                  <a:pt x="218329" y="25988"/>
                </a:lnTo>
                <a:lnTo>
                  <a:pt x="214648" y="21481"/>
                </a:lnTo>
                <a:lnTo>
                  <a:pt x="210290" y="17523"/>
                </a:lnTo>
                <a:lnTo>
                  <a:pt x="205480" y="13932"/>
                </a:lnTo>
                <a:lnTo>
                  <a:pt x="197595" y="7402"/>
                </a:lnTo>
                <a:lnTo>
                  <a:pt x="194159" y="4327"/>
                </a:lnTo>
                <a:lnTo>
                  <a:pt x="189963" y="2277"/>
                </a:lnTo>
                <a:lnTo>
                  <a:pt x="185261" y="911"/>
                </a:lnTo>
                <a:lnTo>
                  <a:pt x="180221" y="0"/>
                </a:lnTo>
                <a:lnTo>
                  <a:pt x="174956" y="345"/>
                </a:lnTo>
                <a:lnTo>
                  <a:pt x="169542" y="1528"/>
                </a:lnTo>
                <a:lnTo>
                  <a:pt x="164027" y="3268"/>
                </a:lnTo>
                <a:lnTo>
                  <a:pt x="158445" y="5381"/>
                </a:lnTo>
                <a:lnTo>
                  <a:pt x="152819" y="7743"/>
                </a:lnTo>
                <a:lnTo>
                  <a:pt x="147163" y="10269"/>
                </a:lnTo>
                <a:lnTo>
                  <a:pt x="140535" y="12906"/>
                </a:lnTo>
                <a:lnTo>
                  <a:pt x="125551" y="18376"/>
                </a:lnTo>
                <a:lnTo>
                  <a:pt x="118507" y="22121"/>
                </a:lnTo>
                <a:lnTo>
                  <a:pt x="111906" y="26522"/>
                </a:lnTo>
                <a:lnTo>
                  <a:pt x="96635" y="38398"/>
                </a:lnTo>
                <a:lnTo>
                  <a:pt x="73972" y="56376"/>
                </a:lnTo>
                <a:lnTo>
                  <a:pt x="62213" y="66504"/>
                </a:lnTo>
                <a:lnTo>
                  <a:pt x="50564" y="77066"/>
                </a:lnTo>
                <a:lnTo>
                  <a:pt x="38988" y="87917"/>
                </a:lnTo>
                <a:lnTo>
                  <a:pt x="29366" y="98962"/>
                </a:lnTo>
                <a:lnTo>
                  <a:pt x="21046" y="110134"/>
                </a:lnTo>
                <a:lnTo>
                  <a:pt x="13595" y="121393"/>
                </a:lnTo>
                <a:lnTo>
                  <a:pt x="8627" y="131756"/>
                </a:lnTo>
                <a:lnTo>
                  <a:pt x="5315" y="141523"/>
                </a:lnTo>
                <a:lnTo>
                  <a:pt x="3108" y="150891"/>
                </a:lnTo>
                <a:lnTo>
                  <a:pt x="1636" y="159994"/>
                </a:lnTo>
                <a:lnTo>
                  <a:pt x="654" y="168920"/>
                </a:lnTo>
                <a:lnTo>
                  <a:pt x="0" y="177728"/>
                </a:lnTo>
                <a:lnTo>
                  <a:pt x="516" y="185506"/>
                </a:lnTo>
                <a:lnTo>
                  <a:pt x="1813" y="192596"/>
                </a:lnTo>
                <a:lnTo>
                  <a:pt x="3630" y="199227"/>
                </a:lnTo>
                <a:lnTo>
                  <a:pt x="5794" y="204601"/>
                </a:lnTo>
                <a:lnTo>
                  <a:pt x="8189" y="209135"/>
                </a:lnTo>
                <a:lnTo>
                  <a:pt x="10738" y="213111"/>
                </a:lnTo>
                <a:lnTo>
                  <a:pt x="14343" y="215762"/>
                </a:lnTo>
                <a:lnTo>
                  <a:pt x="18650" y="217529"/>
                </a:lnTo>
                <a:lnTo>
                  <a:pt x="23427" y="218707"/>
                </a:lnTo>
                <a:lnTo>
                  <a:pt x="28518" y="220444"/>
                </a:lnTo>
                <a:lnTo>
                  <a:pt x="33816" y="222556"/>
                </a:lnTo>
                <a:lnTo>
                  <a:pt x="39253" y="224915"/>
                </a:lnTo>
                <a:lnTo>
                  <a:pt x="44782" y="226489"/>
                </a:lnTo>
                <a:lnTo>
                  <a:pt x="50374" y="227537"/>
                </a:lnTo>
                <a:lnTo>
                  <a:pt x="56007" y="228237"/>
                </a:lnTo>
                <a:lnTo>
                  <a:pt x="61667" y="227750"/>
                </a:lnTo>
                <a:lnTo>
                  <a:pt x="67345" y="226473"/>
                </a:lnTo>
                <a:lnTo>
                  <a:pt x="94697" y="217580"/>
                </a:lnTo>
                <a:lnTo>
                  <a:pt x="102700" y="215884"/>
                </a:lnTo>
                <a:lnTo>
                  <a:pt x="110893" y="214752"/>
                </a:lnTo>
                <a:lnTo>
                  <a:pt x="119212" y="213998"/>
                </a:lnTo>
                <a:lnTo>
                  <a:pt x="126664" y="211591"/>
                </a:lnTo>
                <a:lnTo>
                  <a:pt x="133537" y="208080"/>
                </a:lnTo>
                <a:lnTo>
                  <a:pt x="140023" y="203835"/>
                </a:lnTo>
                <a:lnTo>
                  <a:pt x="147205" y="200053"/>
                </a:lnTo>
                <a:lnTo>
                  <a:pt x="154851" y="196579"/>
                </a:lnTo>
                <a:lnTo>
                  <a:pt x="162805" y="193310"/>
                </a:lnTo>
                <a:lnTo>
                  <a:pt x="170013" y="189226"/>
                </a:lnTo>
                <a:lnTo>
                  <a:pt x="176723" y="184598"/>
                </a:lnTo>
                <a:lnTo>
                  <a:pt x="183102" y="179608"/>
                </a:lnTo>
                <a:lnTo>
                  <a:pt x="189260" y="174376"/>
                </a:lnTo>
                <a:lnTo>
                  <a:pt x="195270" y="168983"/>
                </a:lnTo>
                <a:lnTo>
                  <a:pt x="201181" y="163483"/>
                </a:lnTo>
                <a:lnTo>
                  <a:pt x="207027" y="158864"/>
                </a:lnTo>
                <a:lnTo>
                  <a:pt x="212829" y="154832"/>
                </a:lnTo>
                <a:lnTo>
                  <a:pt x="218602" y="151191"/>
                </a:lnTo>
                <a:lnTo>
                  <a:pt x="224356" y="146859"/>
                </a:lnTo>
                <a:lnTo>
                  <a:pt x="230097" y="142066"/>
                </a:lnTo>
                <a:lnTo>
                  <a:pt x="235829" y="136966"/>
                </a:lnTo>
                <a:lnTo>
                  <a:pt x="240603" y="131661"/>
                </a:lnTo>
                <a:lnTo>
                  <a:pt x="244739" y="126219"/>
                </a:lnTo>
                <a:lnTo>
                  <a:pt x="248449" y="120686"/>
                </a:lnTo>
                <a:lnTo>
                  <a:pt x="251873" y="115092"/>
                </a:lnTo>
                <a:lnTo>
                  <a:pt x="255109" y="109458"/>
                </a:lnTo>
                <a:lnTo>
                  <a:pt x="258219" y="103797"/>
                </a:lnTo>
                <a:lnTo>
                  <a:pt x="260293" y="98118"/>
                </a:lnTo>
                <a:lnTo>
                  <a:pt x="261675" y="92427"/>
                </a:lnTo>
                <a:lnTo>
                  <a:pt x="262596" y="86728"/>
                </a:lnTo>
                <a:lnTo>
                  <a:pt x="263210" y="79119"/>
                </a:lnTo>
                <a:lnTo>
                  <a:pt x="263620" y="70236"/>
                </a:lnTo>
                <a:lnTo>
                  <a:pt x="263893" y="60504"/>
                </a:lnTo>
                <a:lnTo>
                  <a:pt x="263123" y="51158"/>
                </a:lnTo>
                <a:lnTo>
                  <a:pt x="261656" y="42071"/>
                </a:lnTo>
                <a:lnTo>
                  <a:pt x="259726" y="33154"/>
                </a:lnTo>
                <a:lnTo>
                  <a:pt x="256535" y="27211"/>
                </a:lnTo>
                <a:lnTo>
                  <a:pt x="252503" y="23248"/>
                </a:lnTo>
                <a:lnTo>
                  <a:pt x="247909" y="20606"/>
                </a:lnTo>
                <a:lnTo>
                  <a:pt x="240265" y="15131"/>
                </a:lnTo>
                <a:lnTo>
                  <a:pt x="236893" y="12337"/>
                </a:lnTo>
                <a:lnTo>
                  <a:pt x="232740" y="10475"/>
                </a:lnTo>
                <a:lnTo>
                  <a:pt x="228067" y="9233"/>
                </a:lnTo>
                <a:lnTo>
                  <a:pt x="223045" y="8406"/>
                </a:lnTo>
                <a:lnTo>
                  <a:pt x="217794" y="8806"/>
                </a:lnTo>
                <a:lnTo>
                  <a:pt x="212387" y="10026"/>
                </a:lnTo>
                <a:lnTo>
                  <a:pt x="206878" y="11792"/>
                </a:lnTo>
                <a:lnTo>
                  <a:pt x="201300" y="12968"/>
                </a:lnTo>
                <a:lnTo>
                  <a:pt x="195677" y="13753"/>
                </a:lnTo>
                <a:lnTo>
                  <a:pt x="190023" y="14276"/>
                </a:lnTo>
                <a:lnTo>
                  <a:pt x="183395" y="16530"/>
                </a:lnTo>
                <a:lnTo>
                  <a:pt x="176120" y="19938"/>
                </a:lnTo>
                <a:lnTo>
                  <a:pt x="161369" y="27851"/>
                </a:lnTo>
                <a:lnTo>
                  <a:pt x="148462" y="34544"/>
                </a:lnTo>
                <a:lnTo>
                  <a:pt x="139496" y="40519"/>
                </a:lnTo>
                <a:lnTo>
                  <a:pt x="128757" y="48313"/>
                </a:lnTo>
                <a:lnTo>
                  <a:pt x="116834" y="57318"/>
                </a:lnTo>
                <a:lnTo>
                  <a:pt x="107933" y="66180"/>
                </a:lnTo>
                <a:lnTo>
                  <a:pt x="101047" y="74945"/>
                </a:lnTo>
                <a:lnTo>
                  <a:pt x="88950" y="94209"/>
                </a:lnTo>
                <a:lnTo>
                  <a:pt x="74049" y="118646"/>
                </a:lnTo>
                <a:lnTo>
                  <a:pt x="68933" y="129925"/>
                </a:lnTo>
                <a:lnTo>
                  <a:pt x="65522" y="140301"/>
                </a:lnTo>
                <a:lnTo>
                  <a:pt x="63247" y="150077"/>
                </a:lnTo>
                <a:lnTo>
                  <a:pt x="61732" y="157546"/>
                </a:lnTo>
                <a:lnTo>
                  <a:pt x="60720" y="163478"/>
                </a:lnTo>
                <a:lnTo>
                  <a:pt x="60047" y="168386"/>
                </a:lnTo>
                <a:lnTo>
                  <a:pt x="59597" y="172610"/>
                </a:lnTo>
                <a:lnTo>
                  <a:pt x="59298" y="176378"/>
                </a:lnTo>
                <a:lnTo>
                  <a:pt x="58699" y="186773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SMARTPenAnnotation34"/>
          <p:cNvSpPr/>
          <p:nvPr/>
        </p:nvSpPr>
        <p:spPr>
          <a:xfrm>
            <a:off x="6021360" y="2403360"/>
            <a:ext cx="1911240" cy="2336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336760"/>
              <a:gd name="textAreaBottom" fmla="*/ 2337120 h 2336760"/>
            </a:gdLst>
            <a:ahLst/>
            <a:rect l="textAreaLeft" t="textAreaTop" r="textAreaRight" b="textAreaBottom"/>
            <a:pathLst>
              <a:path w="1911668" h="2337409">
                <a:moveTo>
                  <a:pt x="0" y="2337408"/>
                </a:moveTo>
                <a:lnTo>
                  <a:pt x="4551" y="2323756"/>
                </a:lnTo>
                <a:lnTo>
                  <a:pt x="8749" y="2317829"/>
                </a:lnTo>
                <a:lnTo>
                  <a:pt x="26405" y="2299433"/>
                </a:lnTo>
                <a:lnTo>
                  <a:pt x="48136" y="2265047"/>
                </a:lnTo>
                <a:lnTo>
                  <a:pt x="68554" y="2240684"/>
                </a:lnTo>
                <a:lnTo>
                  <a:pt x="84555" y="2215221"/>
                </a:lnTo>
                <a:lnTo>
                  <a:pt x="95048" y="2204363"/>
                </a:lnTo>
                <a:lnTo>
                  <a:pt x="100513" y="2200133"/>
                </a:lnTo>
                <a:lnTo>
                  <a:pt x="111665" y="2185275"/>
                </a:lnTo>
                <a:lnTo>
                  <a:pt x="145752" y="2134399"/>
                </a:lnTo>
                <a:lnTo>
                  <a:pt x="160343" y="2115332"/>
                </a:lnTo>
                <a:lnTo>
                  <a:pt x="204615" y="2047024"/>
                </a:lnTo>
                <a:lnTo>
                  <a:pt x="221599" y="2021498"/>
                </a:lnTo>
                <a:lnTo>
                  <a:pt x="273954" y="1952188"/>
                </a:lnTo>
                <a:lnTo>
                  <a:pt x="287758" y="1929793"/>
                </a:lnTo>
                <a:lnTo>
                  <a:pt x="309006" y="1888627"/>
                </a:lnTo>
                <a:lnTo>
                  <a:pt x="319264" y="1873154"/>
                </a:lnTo>
                <a:lnTo>
                  <a:pt x="331346" y="1850284"/>
                </a:lnTo>
                <a:lnTo>
                  <a:pt x="341258" y="1840556"/>
                </a:lnTo>
                <a:lnTo>
                  <a:pt x="349473" y="1825438"/>
                </a:lnTo>
                <a:lnTo>
                  <a:pt x="359453" y="1803125"/>
                </a:lnTo>
                <a:lnTo>
                  <a:pt x="406819" y="1734913"/>
                </a:lnTo>
                <a:lnTo>
                  <a:pt x="473527" y="1636134"/>
                </a:lnTo>
                <a:lnTo>
                  <a:pt x="524829" y="1570811"/>
                </a:lnTo>
                <a:lnTo>
                  <a:pt x="573229" y="1499522"/>
                </a:lnTo>
                <a:lnTo>
                  <a:pt x="592755" y="1468962"/>
                </a:lnTo>
                <a:lnTo>
                  <a:pt x="614363" y="1445632"/>
                </a:lnTo>
                <a:lnTo>
                  <a:pt x="657909" y="1383394"/>
                </a:lnTo>
                <a:lnTo>
                  <a:pt x="671610" y="1371583"/>
                </a:lnTo>
                <a:lnTo>
                  <a:pt x="721523" y="1299888"/>
                </a:lnTo>
                <a:lnTo>
                  <a:pt x="773831" y="1234532"/>
                </a:lnTo>
                <a:lnTo>
                  <a:pt x="832385" y="1166283"/>
                </a:lnTo>
                <a:lnTo>
                  <a:pt x="841754" y="1157143"/>
                </a:lnTo>
                <a:lnTo>
                  <a:pt x="846920" y="1153372"/>
                </a:lnTo>
                <a:lnTo>
                  <a:pt x="855199" y="1144102"/>
                </a:lnTo>
                <a:lnTo>
                  <a:pt x="905745" y="1079136"/>
                </a:lnTo>
                <a:lnTo>
                  <a:pt x="960074" y="1006661"/>
                </a:lnTo>
                <a:lnTo>
                  <a:pt x="1048224" y="915832"/>
                </a:lnTo>
                <a:lnTo>
                  <a:pt x="1103044" y="846742"/>
                </a:lnTo>
                <a:lnTo>
                  <a:pt x="1112224" y="833832"/>
                </a:lnTo>
                <a:lnTo>
                  <a:pt x="1132505" y="812404"/>
                </a:lnTo>
                <a:lnTo>
                  <a:pt x="1150051" y="798223"/>
                </a:lnTo>
                <a:lnTo>
                  <a:pt x="1183926" y="760682"/>
                </a:lnTo>
                <a:lnTo>
                  <a:pt x="1218734" y="731797"/>
                </a:lnTo>
                <a:lnTo>
                  <a:pt x="1276606" y="666953"/>
                </a:lnTo>
                <a:lnTo>
                  <a:pt x="1288423" y="655819"/>
                </a:lnTo>
                <a:lnTo>
                  <a:pt x="1304834" y="643243"/>
                </a:lnTo>
                <a:lnTo>
                  <a:pt x="1363115" y="571671"/>
                </a:lnTo>
                <a:lnTo>
                  <a:pt x="1386346" y="549132"/>
                </a:lnTo>
                <a:lnTo>
                  <a:pt x="1395934" y="543129"/>
                </a:lnTo>
                <a:lnTo>
                  <a:pt x="1404005" y="534746"/>
                </a:lnTo>
                <a:lnTo>
                  <a:pt x="1456035" y="469902"/>
                </a:lnTo>
                <a:lnTo>
                  <a:pt x="1508058" y="403667"/>
                </a:lnTo>
                <a:lnTo>
                  <a:pt x="1560444" y="344176"/>
                </a:lnTo>
                <a:lnTo>
                  <a:pt x="1613074" y="280932"/>
                </a:lnTo>
                <a:lnTo>
                  <a:pt x="1667057" y="225626"/>
                </a:lnTo>
                <a:lnTo>
                  <a:pt x="1689965" y="206639"/>
                </a:lnTo>
                <a:lnTo>
                  <a:pt x="1740903" y="156129"/>
                </a:lnTo>
                <a:lnTo>
                  <a:pt x="1779617" y="119013"/>
                </a:lnTo>
                <a:lnTo>
                  <a:pt x="1835401" y="56730"/>
                </a:lnTo>
                <a:lnTo>
                  <a:pt x="1876336" y="16260"/>
                </a:lnTo>
                <a:lnTo>
                  <a:pt x="1899007" y="13"/>
                </a:lnTo>
                <a:lnTo>
                  <a:pt x="1901322" y="0"/>
                </a:lnTo>
                <a:lnTo>
                  <a:pt x="1903818" y="943"/>
                </a:lnTo>
                <a:lnTo>
                  <a:pt x="1911667" y="568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SMARTPenAnnotation35"/>
          <p:cNvSpPr/>
          <p:nvPr/>
        </p:nvSpPr>
        <p:spPr>
          <a:xfrm>
            <a:off x="5943600" y="4535640"/>
            <a:ext cx="307800" cy="257040"/>
          </a:xfrm>
          <a:custGeom>
            <a:avLst/>
            <a:gdLst>
              <a:gd name="textAreaLeft" fmla="*/ 0 w 307800"/>
              <a:gd name="textAreaRight" fmla="*/ 308160 w 3078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08610" h="257059">
                <a:moveTo>
                  <a:pt x="0" y="0"/>
                </a:moveTo>
                <a:lnTo>
                  <a:pt x="0" y="145137"/>
                </a:lnTo>
                <a:lnTo>
                  <a:pt x="952" y="152003"/>
                </a:lnTo>
                <a:lnTo>
                  <a:pt x="2540" y="157533"/>
                </a:lnTo>
                <a:lnTo>
                  <a:pt x="4550" y="162172"/>
                </a:lnTo>
                <a:lnTo>
                  <a:pt x="5891" y="168122"/>
                </a:lnTo>
                <a:lnTo>
                  <a:pt x="6785" y="174946"/>
                </a:lnTo>
                <a:lnTo>
                  <a:pt x="7778" y="188244"/>
                </a:lnTo>
                <a:lnTo>
                  <a:pt x="8219" y="197329"/>
                </a:lnTo>
                <a:lnTo>
                  <a:pt x="8415" y="204542"/>
                </a:lnTo>
                <a:lnTo>
                  <a:pt x="8467" y="207799"/>
                </a:lnTo>
                <a:lnTo>
                  <a:pt x="9455" y="212828"/>
                </a:lnTo>
                <a:lnTo>
                  <a:pt x="11065" y="219038"/>
                </a:lnTo>
                <a:lnTo>
                  <a:pt x="13092" y="226035"/>
                </a:lnTo>
                <a:lnTo>
                  <a:pt x="15395" y="230700"/>
                </a:lnTo>
                <a:lnTo>
                  <a:pt x="17883" y="233810"/>
                </a:lnTo>
                <a:lnTo>
                  <a:pt x="20495" y="235883"/>
                </a:lnTo>
                <a:lnTo>
                  <a:pt x="22235" y="238218"/>
                </a:lnTo>
                <a:lnTo>
                  <a:pt x="24170" y="243353"/>
                </a:lnTo>
                <a:lnTo>
                  <a:pt x="25638" y="245102"/>
                </a:lnTo>
                <a:lnTo>
                  <a:pt x="27569" y="246269"/>
                </a:lnTo>
                <a:lnTo>
                  <a:pt x="29810" y="247047"/>
                </a:lnTo>
                <a:lnTo>
                  <a:pt x="34838" y="250451"/>
                </a:lnTo>
                <a:lnTo>
                  <a:pt x="37513" y="252692"/>
                </a:lnTo>
                <a:lnTo>
                  <a:pt x="40249" y="254187"/>
                </a:lnTo>
                <a:lnTo>
                  <a:pt x="45828" y="255847"/>
                </a:lnTo>
                <a:lnTo>
                  <a:pt x="54324" y="256782"/>
                </a:lnTo>
                <a:lnTo>
                  <a:pt x="62874" y="257058"/>
                </a:lnTo>
                <a:lnTo>
                  <a:pt x="71124" y="254583"/>
                </a:lnTo>
                <a:lnTo>
                  <a:pt x="80188" y="250308"/>
                </a:lnTo>
                <a:lnTo>
                  <a:pt x="87391" y="245233"/>
                </a:lnTo>
                <a:lnTo>
                  <a:pt x="93768" y="242343"/>
                </a:lnTo>
                <a:lnTo>
                  <a:pt x="96802" y="241571"/>
                </a:lnTo>
                <a:lnTo>
                  <a:pt x="102713" y="238175"/>
                </a:lnTo>
                <a:lnTo>
                  <a:pt x="111395" y="230908"/>
                </a:lnTo>
                <a:lnTo>
                  <a:pt x="117136" y="225498"/>
                </a:lnTo>
                <a:lnTo>
                  <a:pt x="133663" y="209184"/>
                </a:lnTo>
                <a:lnTo>
                  <a:pt x="140544" y="202322"/>
                </a:lnTo>
                <a:lnTo>
                  <a:pt x="146083" y="195841"/>
                </a:lnTo>
                <a:lnTo>
                  <a:pt x="150729" y="189616"/>
                </a:lnTo>
                <a:lnTo>
                  <a:pt x="154778" y="183561"/>
                </a:lnTo>
                <a:lnTo>
                  <a:pt x="159383" y="178571"/>
                </a:lnTo>
                <a:lnTo>
                  <a:pt x="164358" y="174292"/>
                </a:lnTo>
                <a:lnTo>
                  <a:pt x="169579" y="170487"/>
                </a:lnTo>
                <a:lnTo>
                  <a:pt x="176870" y="164141"/>
                </a:lnTo>
                <a:lnTo>
                  <a:pt x="185541" y="156100"/>
                </a:lnTo>
                <a:lnTo>
                  <a:pt x="217730" y="124920"/>
                </a:lnTo>
                <a:lnTo>
                  <a:pt x="223259" y="118523"/>
                </a:lnTo>
                <a:lnTo>
                  <a:pt x="227896" y="112353"/>
                </a:lnTo>
                <a:lnTo>
                  <a:pt x="231941" y="106334"/>
                </a:lnTo>
                <a:lnTo>
                  <a:pt x="239400" y="98512"/>
                </a:lnTo>
                <a:lnTo>
                  <a:pt x="249135" y="89488"/>
                </a:lnTo>
                <a:lnTo>
                  <a:pt x="260387" y="79661"/>
                </a:lnTo>
                <a:lnTo>
                  <a:pt x="277970" y="63662"/>
                </a:lnTo>
                <a:lnTo>
                  <a:pt x="296038" y="46485"/>
                </a:lnTo>
                <a:lnTo>
                  <a:pt x="308609" y="3429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SMARTPenAnnotation36"/>
          <p:cNvSpPr/>
          <p:nvPr/>
        </p:nvSpPr>
        <p:spPr>
          <a:xfrm>
            <a:off x="7743960" y="233208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91349" h="291317">
                <a:moveTo>
                  <a:pt x="0" y="59858"/>
                </a:moveTo>
                <a:lnTo>
                  <a:pt x="34074" y="59858"/>
                </a:lnTo>
                <a:lnTo>
                  <a:pt x="38909" y="58906"/>
                </a:lnTo>
                <a:lnTo>
                  <a:pt x="44036" y="57318"/>
                </a:lnTo>
                <a:lnTo>
                  <a:pt x="49361" y="55307"/>
                </a:lnTo>
                <a:lnTo>
                  <a:pt x="57815" y="53073"/>
                </a:lnTo>
                <a:lnTo>
                  <a:pt x="61404" y="52477"/>
                </a:lnTo>
                <a:lnTo>
                  <a:pt x="67605" y="50175"/>
                </a:lnTo>
                <a:lnTo>
                  <a:pt x="75551" y="46735"/>
                </a:lnTo>
                <a:lnTo>
                  <a:pt x="99855" y="35332"/>
                </a:lnTo>
                <a:lnTo>
                  <a:pt x="106575" y="32077"/>
                </a:lnTo>
                <a:lnTo>
                  <a:pt x="114865" y="28955"/>
                </a:lnTo>
                <a:lnTo>
                  <a:pt x="124201" y="25921"/>
                </a:lnTo>
                <a:lnTo>
                  <a:pt x="134235" y="22946"/>
                </a:lnTo>
                <a:lnTo>
                  <a:pt x="155546" y="17100"/>
                </a:lnTo>
                <a:lnTo>
                  <a:pt x="200269" y="5586"/>
                </a:lnTo>
                <a:lnTo>
                  <a:pt x="211618" y="3674"/>
                </a:lnTo>
                <a:lnTo>
                  <a:pt x="222994" y="2400"/>
                </a:lnTo>
                <a:lnTo>
                  <a:pt x="242936" y="984"/>
                </a:lnTo>
                <a:lnTo>
                  <a:pt x="262556" y="0"/>
                </a:lnTo>
                <a:lnTo>
                  <a:pt x="264572" y="902"/>
                </a:lnTo>
                <a:lnTo>
                  <a:pt x="271961" y="6724"/>
                </a:lnTo>
                <a:lnTo>
                  <a:pt x="277398" y="11795"/>
                </a:lnTo>
                <a:lnTo>
                  <a:pt x="279230" y="14481"/>
                </a:lnTo>
                <a:lnTo>
                  <a:pt x="282759" y="22812"/>
                </a:lnTo>
                <a:lnTo>
                  <a:pt x="288463" y="31313"/>
                </a:lnTo>
                <a:lnTo>
                  <a:pt x="290131" y="37011"/>
                </a:lnTo>
                <a:lnTo>
                  <a:pt x="291069" y="45575"/>
                </a:lnTo>
                <a:lnTo>
                  <a:pt x="291289" y="53827"/>
                </a:lnTo>
                <a:lnTo>
                  <a:pt x="291348" y="58695"/>
                </a:lnTo>
                <a:lnTo>
                  <a:pt x="290434" y="65750"/>
                </a:lnTo>
                <a:lnTo>
                  <a:pt x="288873" y="74264"/>
                </a:lnTo>
                <a:lnTo>
                  <a:pt x="286879" y="83749"/>
                </a:lnTo>
                <a:lnTo>
                  <a:pt x="284598" y="91978"/>
                </a:lnTo>
                <a:lnTo>
                  <a:pt x="282124" y="99369"/>
                </a:lnTo>
                <a:lnTo>
                  <a:pt x="279523" y="106201"/>
                </a:lnTo>
                <a:lnTo>
                  <a:pt x="276835" y="112661"/>
                </a:lnTo>
                <a:lnTo>
                  <a:pt x="274092" y="118872"/>
                </a:lnTo>
                <a:lnTo>
                  <a:pt x="268503" y="130854"/>
                </a:lnTo>
                <a:lnTo>
                  <a:pt x="245741" y="176998"/>
                </a:lnTo>
                <a:lnTo>
                  <a:pt x="242884" y="183672"/>
                </a:lnTo>
                <a:lnTo>
                  <a:pt x="240028" y="190978"/>
                </a:lnTo>
                <a:lnTo>
                  <a:pt x="237170" y="198706"/>
                </a:lnTo>
                <a:lnTo>
                  <a:pt x="234314" y="207669"/>
                </a:lnTo>
                <a:lnTo>
                  <a:pt x="231457" y="217453"/>
                </a:lnTo>
                <a:lnTo>
                  <a:pt x="228600" y="227786"/>
                </a:lnTo>
                <a:lnTo>
                  <a:pt x="226695" y="236580"/>
                </a:lnTo>
                <a:lnTo>
                  <a:pt x="225425" y="244348"/>
                </a:lnTo>
                <a:lnTo>
                  <a:pt x="224578" y="251431"/>
                </a:lnTo>
                <a:lnTo>
                  <a:pt x="223060" y="259011"/>
                </a:lnTo>
                <a:lnTo>
                  <a:pt x="221097" y="266922"/>
                </a:lnTo>
                <a:lnTo>
                  <a:pt x="214312" y="291316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C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ent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review defined term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learn about angles and postul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guage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share their answers using the smartboar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show understanding of angles and postulates in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ough any three points there is at least one plane, and through any three noncollinear points there is exactly one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two points are in a plane, then the line that contains the points are in that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9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two planes intersect, then their intersection is a l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438280" y="2725560"/>
            <a:ext cx="41148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D WE MEET OUR OBJECTIV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ent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review defined term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learn about angles and postul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guage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show understanding of angles and postulates in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rcRect l="0" t="0" r="0" b="9660"/>
          <a:stretch/>
        </p:blipFill>
        <p:spPr>
          <a:xfrm>
            <a:off x="609480" y="0"/>
            <a:ext cx="713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6543720" cy="2619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3036960" y="228600"/>
            <a:ext cx="3070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4487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rcRect l="0" t="4367" r="1890" b="0"/>
          <a:stretch/>
        </p:blipFill>
        <p:spPr>
          <a:xfrm>
            <a:off x="228600" y="0"/>
            <a:ext cx="792468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BOUT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angle is the figure formed by two rays with the same endpoi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shared endpoint is called the verte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wo rays are called the sides of the an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can name the angle B, angle ABC, angle CBA, or angle 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41054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AM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several ways to name the two ang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4197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ASUR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s are measured in degrees.  Like distance, degrees are positi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geometry we measure angles in degrees and angles can have degree measures from 0° to 180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21:49:56Z</dcterms:created>
  <dc:creator>Ameena</dc:creator>
  <dc:description/>
  <dc:language>en-US</dc:language>
  <cp:lastModifiedBy>Ameena</cp:lastModifiedBy>
  <dcterms:modified xsi:type="dcterms:W3CDTF">2010-04-06T16:46:18Z</dcterms:modified>
  <cp:revision>41</cp:revision>
  <dc:subject/>
  <dc:title>Defined Terms and Postulates</dc:title>
</cp:coreProperties>
</file>